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7421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742800" cy="9907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589200" y="9459720"/>
            <a:ext cx="290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/</a:t>
            </a:r>
            <a:fld id="{89F3DF25-57F6-4B5A-B45A-BDF0068A87F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ldImg"/>
          </p:nvPr>
        </p:nvSpPr>
        <p:spPr>
          <a:xfrm>
            <a:off x="894600" y="752760"/>
            <a:ext cx="4953240" cy="371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Bitstream Vera Sans"/>
              </a:rPr>
              <a:t>Click to move the slid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5189400" y="283536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981000" y="382680"/>
            <a:ext cx="4907160" cy="367956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1240" cy="82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783756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837720" y="3939480"/>
            <a:ext cx="783756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1240" cy="82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382464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53880" y="1676520"/>
            <a:ext cx="382464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37720" y="3939480"/>
            <a:ext cx="382464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853880" y="3939480"/>
            <a:ext cx="382464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1240" cy="82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252360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488040" y="1676520"/>
            <a:ext cx="252360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38000" y="1676520"/>
            <a:ext cx="252360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837720" y="3939480"/>
            <a:ext cx="252360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488040" y="3939480"/>
            <a:ext cx="252360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38000" y="3939480"/>
            <a:ext cx="252360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1240" cy="82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837720" y="1676520"/>
            <a:ext cx="7837560" cy="43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1240" cy="82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7837560" cy="433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1240" cy="82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3824640" cy="433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853880" y="1676520"/>
            <a:ext cx="3824640" cy="433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1240" cy="82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837720" y="380880"/>
            <a:ext cx="7761240" cy="383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1240" cy="82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382464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53880" y="1676520"/>
            <a:ext cx="3824640" cy="433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837720" y="3939480"/>
            <a:ext cx="382464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1240" cy="82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3824640" cy="433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53880" y="1676520"/>
            <a:ext cx="382464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853880" y="3939480"/>
            <a:ext cx="382464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1240" cy="82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382464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53880" y="1676520"/>
            <a:ext cx="382464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7720" y="3939480"/>
            <a:ext cx="783756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2120" y="6400800"/>
            <a:ext cx="6324480" cy="2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7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6666ff"/>
                </a:solidFill>
                <a:latin typeface="Bitstream Vera Sans"/>
              </a:rPr>
              <a:t>2003  TTÜ   T.Tammet   loeng 2                    </a:t>
            </a:r>
            <a:r>
              <a:rPr b="1" lang="en-GB" sz="1400" spc="-1" strike="noStrike">
                <a:solidFill>
                  <a:srgbClr val="6666ff"/>
                </a:solidFill>
                <a:latin typeface="Bitstream Vera Sans"/>
              </a:rPr>
              <a:t>- </a:t>
            </a:r>
            <a:fld id="{5939BBCD-F743-4D20-B111-2B2C68BEFFC9}" type="slidenum">
              <a:rPr b="1" lang="en-GB" sz="1400" spc="-1" strike="noStrike">
                <a:solidFill>
                  <a:srgbClr val="6666ff"/>
                </a:solidFill>
                <a:latin typeface="Bitstream Vera Sans"/>
              </a:rPr>
              <a:t>&lt;number&gt;</a:t>
            </a:fld>
            <a:r>
              <a:rPr b="1" lang="en-GB" sz="1400" spc="-1" strike="noStrike">
                <a:solidFill>
                  <a:srgbClr val="6666ff"/>
                </a:solidFill>
                <a:latin typeface="Bitstream Vera Sans"/>
              </a:rPr>
              <a:t>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38080" y="6324480"/>
            <a:ext cx="7772400" cy="1800"/>
          </a:xfrm>
          <a:prstGeom prst="line">
            <a:avLst/>
          </a:prstGeom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1240" cy="82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Bitstream Vera Sans"/>
              </a:rPr>
              <a:t>Click to edit the title text format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37720" y="1676520"/>
            <a:ext cx="7837560" cy="433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3" marL="16002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4" marL="20574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5" marL="2057400" indent="-228600">
              <a:lnSpc>
                <a:spcPct val="97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6" marL="2057400" indent="-228600">
              <a:lnSpc>
                <a:spcPct val="97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ttu.ee/it/" TargetMode="External"/><Relationship Id="rId2" Type="http://schemas.openxmlformats.org/officeDocument/2006/relationships/hyperlink" Target="http://www.microsoft.com/xlang" TargetMode="External"/><Relationship Id="rId3" Type="http://schemas.openxmlformats.org/officeDocument/2006/relationships/hyperlink" Target="http://www.ttu.ee/it/" TargetMode="External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www.ttu.ee/it/index.html" TargetMode="External"/><Relationship Id="rId2" Type="http://schemas.openxmlformats.org/officeDocument/2006/relationships/hyperlink" Target="ftp://ftp.is.co.za/rfc/rfc1808.txt" TargetMode="External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eco.commerce.net/" TargetMode="External"/><Relationship Id="rId2" Type="http://schemas.openxmlformats.org/officeDocument/2006/relationships/hyperlink" Target="http://eco.commerce.net/" TargetMode="External"/><Relationship Id="rId3" Type="http://schemas.openxmlformats.org/officeDocument/2006/relationships/hyperlink" Target="http://www.commerceone.com/xml/" TargetMode="External"/><Relationship Id="rId4" Type="http://schemas.openxmlformats.org/officeDocument/2006/relationships/hyperlink" Target="http://www.biztalk.org/" TargetMode="External"/><Relationship Id="rId5" Type="http://schemas.openxmlformats.org/officeDocument/2006/relationships/hyperlink" Target="http://www.biztalk.org/" TargetMode="External"/><Relationship Id="rId6" Type="http://schemas.openxmlformats.org/officeDocument/2006/relationships/hyperlink" Target="http://www.cxml.org/" TargetMode="External"/><Relationship Id="rId7" Type="http://schemas.openxmlformats.org/officeDocument/2006/relationships/hyperlink" Target="http://www.rosettanet.org/" TargetMode="External"/><Relationship Id="rId8" Type="http://schemas.openxmlformats.org/officeDocument/2006/relationships/hyperlink" Target="http://www.fpml.org/" TargetMode="External"/><Relationship Id="rId9" Type="http://schemas.openxmlformats.org/officeDocument/2006/relationships/hyperlink" Target="http://www.openbuy.org/obi/" TargetMode="External"/><Relationship Id="rId10" Type="http://schemas.openxmlformats.org/officeDocument/2006/relationships/hyperlink" Target="http://www.visa.com/ut/dnld/spec.ghtml" TargetMode="External"/><Relationship Id="rId11" Type="http://schemas.openxmlformats.org/officeDocument/2006/relationships/hyperlink" Target="http://www.code360.com/" TargetMode="External"/><Relationship Id="rId12" Type="http://schemas.openxmlformats.org/officeDocument/2006/relationships/hyperlink" Target="http://www.bluestone.com/" TargetMode="External"/><Relationship Id="rId13" Type="http://schemas.openxmlformats.org/officeDocument/2006/relationships/hyperlink" Target="http://www.bluestone.com/" TargetMode="External"/><Relationship Id="rId14" Type="http://schemas.openxmlformats.org/officeDocument/2006/relationships/hyperlink" Target="http://www.webmethods.com/" TargetMode="External"/><Relationship Id="rId15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 </a:t>
            </a:r>
            <a:br>
              <a:rPr sz="2400"/>
            </a:b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6153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 algn="ctr">
              <a:lnSpc>
                <a:spcPct val="97000"/>
              </a:lnSpc>
              <a:spcBef>
                <a:spcPts val="6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Bitstream Vera Sans"/>
              </a:rPr>
              <a:t>XML baaskursus: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 algn="ctr">
              <a:lnSpc>
                <a:spcPct val="97000"/>
              </a:lnSpc>
              <a:spcBef>
                <a:spcPts val="6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 algn="ctr">
              <a:lnSpc>
                <a:spcPct val="97000"/>
              </a:lnSpc>
              <a:spcBef>
                <a:spcPts val="6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XML süntaks, tähestikud, 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 algn="ctr">
              <a:lnSpc>
                <a:spcPct val="97000"/>
              </a:lnSpc>
              <a:spcBef>
                <a:spcPts val="6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nimeruumid (namespaces). 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 algn="ctr">
              <a:lnSpc>
                <a:spcPct val="97000"/>
              </a:lnSpc>
              <a:spcBef>
                <a:spcPts val="6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DTD ja XML schema.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 algn="ctr">
              <a:lnSpc>
                <a:spcPct val="97000"/>
              </a:lnSpc>
              <a:spcBef>
                <a:spcPts val="6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 algn="ctr">
              <a:lnSpc>
                <a:spcPct val="97000"/>
              </a:lnSpc>
              <a:spcBef>
                <a:spcPts val="6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 algn="ctr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 algn="ctr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 algn="ctr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 algn="ctr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Tanel Tammet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 algn="ctr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Süntaks: tühikud 2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65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Järgmised sümbolid on nn whitespace: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Harilik tühik,                         ascii hexa kood   20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ab sümbol,                          ascii hexa kood     9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Realõpp (linefeed)                ascii hexa kood     A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Reavahe (carriage return)    ascii hexa kood    D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NB!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XML parser asendab (standardi järgi):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carriage return / linefeed paari (windowsi failide reavahetus)    ühe linefeed sümboliga (unixi reavahetus)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Üksiku carriage return sümboli linefeed sümboliga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838080" y="379080"/>
            <a:ext cx="7759800" cy="297000"/>
            <a:chOff x="838080" y="379080"/>
            <a:chExt cx="7759800" cy="297000"/>
          </a:xfrm>
        </p:grpSpPr>
        <p:sp>
          <p:nvSpPr>
            <p:cNvPr id="100" name=""/>
            <p:cNvSpPr/>
            <p:nvPr/>
          </p:nvSpPr>
          <p:spPr>
            <a:xfrm>
              <a:off x="838080" y="666720"/>
              <a:ext cx="77583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flipV="1">
              <a:off x="8596440" y="379080"/>
              <a:ext cx="1440" cy="2970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Süntaks: tähed 2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990360"/>
            <a:ext cx="7848720" cy="641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Sümbolid  &lt;   ja  &amp;   on andmetekstis keelatud!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i ole korrektne:  &lt;avaldis&gt;2&lt;3&lt;/avaldis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i ole korrektne:  &lt;avaldis&gt;A&amp;B&lt;/avaldis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i ole korrektne:  &lt;avaldis sisu1=”A&amp;B” sisu2=”A&lt;B”/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Nende sümbolite asemel tuleb kasutada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eritähistusi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(entities):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   asemel   &amp;lt;        näiteks  &lt;avaldis f=”2&amp;lt;6”&gt;2&amp;lt;3&lt;/avaldis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amp;   asemel   &amp;amp;   näiteks   &lt;avaldis&gt;A&amp;amp;B&lt;/avaldis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Järgmised eritähistused on alati kasutatavad: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amp;lt;       tähistab     &l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amp;gt;      tähistab     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amp;amp;  tähistab     &amp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amp;apos;  tähistab     “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amp;quot;  tähistab      '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838080" y="379080"/>
            <a:ext cx="7759800" cy="297000"/>
            <a:chOff x="838080" y="379080"/>
            <a:chExt cx="7759800" cy="297000"/>
          </a:xfrm>
        </p:grpSpPr>
        <p:sp>
          <p:nvSpPr>
            <p:cNvPr id="105" name=""/>
            <p:cNvSpPr/>
            <p:nvPr/>
          </p:nvSpPr>
          <p:spPr>
            <a:xfrm>
              <a:off x="838080" y="666720"/>
              <a:ext cx="77583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flipV="1">
              <a:off x="8596440" y="379080"/>
              <a:ext cx="1440" cy="2970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Süntaks: CDATA variant tekstiandmetel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65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Tekstiandmeid saab esitada spetsiaalse CDATA süntaksi abil: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nimi&gt;&lt;![CDATA[  Tanel Tammet]]&gt;&lt;/nimi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on täpselt sama, kui harilik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nimi&gt;   Tanel Tammet&lt;/nimi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CDATA süntaksiga antud tekst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võib sisaldada mistahes sümboleid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, sh &lt; ja &amp;, kuid ei või sisaldada ]]&gt;, näiteks nii: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script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![CDATA[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function match(a,b)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{ if (a &lt; b &amp;&amp; a &lt; 0) then return 1 else return 0; }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]]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/script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379080"/>
            <a:ext cx="7759800" cy="297000"/>
            <a:chOff x="838080" y="379080"/>
            <a:chExt cx="7759800" cy="297000"/>
          </a:xfrm>
        </p:grpSpPr>
        <p:sp>
          <p:nvSpPr>
            <p:cNvPr id="110" name=""/>
            <p:cNvSpPr/>
            <p:nvPr/>
          </p:nvSpPr>
          <p:spPr>
            <a:xfrm>
              <a:off x="838080" y="666720"/>
              <a:ext cx="77583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flipV="1">
              <a:off x="8596440" y="379080"/>
              <a:ext cx="1440" cy="2970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Süntaks: kommentaarid jm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666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Kommentaaride jaoks on erisüntaks: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!--  Siin on kommentaari tekst --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!-- Ning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iin &lt; &amp; ka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--&gt;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Töötlemiskäskude (processing instructions)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jaoks on kommentaari moodi erisüntaks: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?kask1   Siin on tootluskask ?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?miskikorraldus Ning ?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iin &lt; ka &amp;      ?&gt;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NB! Kommentaar ei tohi sisaldada -- ja töötluskäsk ?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NB! Töötluskäsus peab kohe ? järel olema käsunimi (a la tag)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838080" y="379080"/>
            <a:ext cx="7759800" cy="297000"/>
            <a:chOff x="838080" y="379080"/>
            <a:chExt cx="7759800" cy="297000"/>
          </a:xfrm>
        </p:grpSpPr>
        <p:sp>
          <p:nvSpPr>
            <p:cNvPr id="115" name=""/>
            <p:cNvSpPr/>
            <p:nvPr/>
          </p:nvSpPr>
          <p:spPr>
            <a:xfrm>
              <a:off x="838080" y="666720"/>
              <a:ext cx="77583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flipV="1">
              <a:off x="8596440" y="379080"/>
              <a:ext cx="1440" cy="2970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Süntaks: xml spetsiaalkäsk ja tähestiku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645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XML fail võib alata (ja soovitavalt algab!) käsuga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?xml version=”1.0” ?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Selle käsu sees saab määrata faili tähestiku (encoding)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?xml version=”1.0” encoding="ISO-8859-1"?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ncoding on tähestiku nimi ISO standardi järgi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SO-8859-1 on harilikuim euroopas kasutatav tähestik, nn ISO-LATIN-1. Sisaldab kõiki meie täpitähti peale zh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NB!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HTML-s tuntud &amp;auml; ä jaoks, &amp;otilde; õ jaoks jne ei ole XMLs defineeritud: neist ei saa parser aru ja annab vea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ui encoding pole antud, siis eeldab XML parser, et kasutatakse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UTF-8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kodeeringut. Sel juhul annavad harilikud ISO-8859-1 täpitähed kas parseri vea või asendatakse nad valesti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838080" y="379080"/>
            <a:ext cx="7759800" cy="297000"/>
            <a:chOff x="838080" y="379080"/>
            <a:chExt cx="7759800" cy="297000"/>
          </a:xfrm>
        </p:grpSpPr>
        <p:sp>
          <p:nvSpPr>
            <p:cNvPr id="120" name=""/>
            <p:cNvSpPr/>
            <p:nvPr/>
          </p:nvSpPr>
          <p:spPr>
            <a:xfrm>
              <a:off x="838080" y="666720"/>
              <a:ext cx="77583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>
              <a:off x="8596440" y="379080"/>
              <a:ext cx="1440" cy="2970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Süntaks:  ”encoding”u näitei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8080" y="990360"/>
            <a:ext cx="7848720" cy="6350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See XML fail on OK (kuid mittesoovitav, pole ?xml käsku):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nimi&gt;Jaan Vask&lt;/nimi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See XML fail annab vea (täpitäht, pole encodingut!)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nimi&gt;Jüri Vask&lt;/nimi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See XML fail on korrektne (NB! täpitäht ka taginimes)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?xml version=”1.0” encoding="ISO-8859-1"?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üldinfo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nimi&gt;Jüri Sõmerpalu&lt;/nimi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/üldinfo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NB! Kasuta igal võimalikul juhul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?xml version=”1.0” encoding="ISO-8859-1"?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838080" y="379080"/>
            <a:ext cx="7759800" cy="297000"/>
            <a:chOff x="838080" y="379080"/>
            <a:chExt cx="7759800" cy="297000"/>
          </a:xfrm>
        </p:grpSpPr>
        <p:sp>
          <p:nvSpPr>
            <p:cNvPr id="125" name=""/>
            <p:cNvSpPr/>
            <p:nvPr/>
          </p:nvSpPr>
          <p:spPr>
            <a:xfrm>
              <a:off x="838080" y="666720"/>
              <a:ext cx="77583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 flipV="1">
              <a:off x="8596440" y="379080"/>
              <a:ext cx="1440" cy="2970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Süntaks:  üldinfot tähestikest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65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Harilikud kodeeringud: üks täht on üks bait: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Üks bait (kaheksa bitti) sisaldab numbrit vahemikus 0-255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SCII kodeering määrab numbritele 0-127 vastavad tähed ja on tarkvara puhul üldkasutatav igal pool, igas keeles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äpitähti ja muid mitte-inglise tähti ASCII ei sisalda!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838080" y="379080"/>
            <a:ext cx="7759800" cy="297000"/>
            <a:chOff x="838080" y="379080"/>
            <a:chExt cx="7759800" cy="297000"/>
          </a:xfrm>
        </p:grpSpPr>
        <p:sp>
          <p:nvSpPr>
            <p:cNvPr id="130" name=""/>
            <p:cNvSpPr/>
            <p:nvPr/>
          </p:nvSpPr>
          <p:spPr>
            <a:xfrm>
              <a:off x="838080" y="666720"/>
              <a:ext cx="77583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flipV="1">
              <a:off x="8596440" y="379080"/>
              <a:ext cx="1440" cy="2970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822320" y="2857680"/>
            <a:ext cx="5456520" cy="24667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Süntaks:  üldinfot tähestikest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38080" y="990360"/>
            <a:ext cx="7848720" cy="6134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Harilikud kodeeringud: üks täht on üks bait: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Üks bait (kaheksa bitti) sisaldab numbrit vahemikus 0-255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SCII kodeering määrab numbritele 0-127 vastavad tähed ja on üldkasutatav igal pool, igas keeles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äpitähti ja muid mitte-inglise tähti ASCII ei sisalda!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äpitähed ja muud mitte-inglise tähed (vene, läti, ...) kodeeritakse harilikult numbritega vahemikus 128-255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Vene/läti jne ISO kodeeringus on eesti täpitähed teiste numbritega kui eesti harilikus ISO-8859-1 kodeeringus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Vene keele jaoks on terve hulk erinevaid kodeerimisviise!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UTF-8 kodeeringus on üks täht üks (harilikult) kuni kuus baiti: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SCII tähed 0-127 on üks bait, muutmata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esti täpitähed on kaks baiti: ISO kodeeringus paistavad nad kui Ãµ Ã¼ Ã¤ jne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uud tähed (hiina hieroglüüfid jne) võivad olla kuni kuus baiti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838080" y="379080"/>
            <a:ext cx="7759800" cy="297000"/>
            <a:chOff x="838080" y="379080"/>
            <a:chExt cx="7759800" cy="297000"/>
          </a:xfrm>
        </p:grpSpPr>
        <p:sp>
          <p:nvSpPr>
            <p:cNvPr id="136" name=""/>
            <p:cNvSpPr/>
            <p:nvPr/>
          </p:nvSpPr>
          <p:spPr>
            <a:xfrm>
              <a:off x="838080" y="666720"/>
              <a:ext cx="77583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flipV="1">
              <a:off x="8596440" y="379080"/>
              <a:ext cx="1440" cy="2970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Süntaks:  veel tähestikest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38080" y="990360"/>
            <a:ext cx="7848720" cy="593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25080" indent="-32508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eale UTF-8 ja UTF-16 kasutatakse ka UTF-32: viimases on iga täht neli baiti!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25080" indent="-32508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is on UNICODE: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17120" indent="-2689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evinud üldnimetus (ja standard) visuaalsete tähtede (glyphs) kodeerimiseks numbritega. Igal glyphil oma number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17120" indent="-2689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Unicode n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umbrid on vahemikus 0...4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294967296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(4 baiti)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17120" indent="-2689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Unicodes on kodeeritud enamik kasutatavaid tähti maailmas (ladina, vene, araabia, hiina, jaapani jne), kuid mitte kõik ürgtähed jne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17120" indent="-2689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UCS2 on UNICODE põhialamhulk: numbrid 0..65536 (BMP)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17120" indent="-2689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UCS4 on terve UNICODE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17120" indent="-2689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UTF-8, UTF-16 ja UTF-32 on levinuimad viisid UNICODE järgi praktiliseks kodeerimiseks.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17120" indent="-2689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UTF-8 idee on ASCII sümbolite 0-127 hoidmine (endiselt) ühe baidina, ning teisi UNICODE sümboleid kodeeritakse pikemalt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17120" indent="-2689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UTF-16 idee on praktiliselt kõigi levinud UNICODE sümbolite hoidmine kahe baidina, mis lihtsustab tekstitöötlust, kuid võtab rohkem ruumi. Variandid: UTF-16, UTF-16BE, UTF-16LE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2508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2508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838080" y="379080"/>
            <a:ext cx="7759800" cy="297000"/>
            <a:chOff x="838080" y="379080"/>
            <a:chExt cx="7759800" cy="297000"/>
          </a:xfrm>
        </p:grpSpPr>
        <p:sp>
          <p:nvSpPr>
            <p:cNvPr id="141" name=""/>
            <p:cNvSpPr/>
            <p:nvPr/>
          </p:nvSpPr>
          <p:spPr>
            <a:xfrm>
              <a:off x="838080" y="666720"/>
              <a:ext cx="77583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 flipV="1">
              <a:off x="8596440" y="379080"/>
              <a:ext cx="1440" cy="2970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Süntaks:  XML parserid ja tähestiku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38080" y="990360"/>
            <a:ext cx="7848720" cy="59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UTF-16 kodeeringus on iga täht (sh ASCII 0-127) kaks baiti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Nii ASCII tähed kui eesti täpitähed on kaks baiti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ellist kodeeringut kasutavad näiteks Java stringid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Visual Basic ja Windows NT/2000/XP kasutavad ka UCS2-te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C stringid, vastupidi, kasutavad ühe baidi kodeeringut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odeeringute teisendamine ei ole triviaalne, selleks kasutatakse enamasti spetsiaalseid teeke. Näiteks C puhul iconv funktsiooni. Vaata käsuga iconv --list teegi poolt tuntud kodeeringute nimesid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XML parserid peavad standardi järgi lugema nii UTF-8 kui UTF-16 kodeeringut. Võib anda näiteks .... encoding=”UTF-16”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Reeglina loevad nad paljusid kodeeringuid, esmajoones ISO-8859-1, kui harilikku euroopas kasutatavat kodeeringut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isemiselt hoiavad parserid teksti enamasti kas UTF-8 (C keele puhul) või UTF-16 (Java keele puhul) kodeeringus ning programmeerija peab parseri antud tulemuse enamasti ise konverteerima soovitud kodeeringusse, näiteks ISO-8859-1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838080" y="379080"/>
            <a:ext cx="7759800" cy="297000"/>
            <a:chOff x="838080" y="379080"/>
            <a:chExt cx="7759800" cy="297000"/>
          </a:xfrm>
        </p:grpSpPr>
        <p:sp>
          <p:nvSpPr>
            <p:cNvPr id="146" name=""/>
            <p:cNvSpPr/>
            <p:nvPr/>
          </p:nvSpPr>
          <p:spPr>
            <a:xfrm>
              <a:off x="838080" y="666720"/>
              <a:ext cx="77583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V="1">
              <a:off x="8596440" y="379080"/>
              <a:ext cx="1440" cy="2970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XML süntak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34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elmises loengus vaadatud põhialustele lisanduvad mõned nüansid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eeldetuletuseks andmete esitamise kohta: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Andmed tagide vahel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 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nimi&gt;Nuia õllevabrik&lt;/nimi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Tühja tagi saab lühendada: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 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onlaos/&gt;  on samaväärne kui    &lt;onlaos&gt;&lt;/onlaos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Andmed võivad olla ka tagi atribuutides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hind valuuta=”EEK”&gt;9.8&lt;/hind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Tagide vahel võib olla palju samanimelisi tage: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laos&gt;&lt;toode&gt;1&lt;/toode&gt;&lt;toode&gt;2&lt;/toode&gt;&lt;/laos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gal tagil võib olla mingi nimega atribuute vaid üks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Vale: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&lt;hind valuuta=”EEK” valuuta=”EUR”&gt;9.8&lt;/hind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Õige: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&lt;hind valuuta=”EEK” kaibemaks=”18”&gt;9.8&lt;/hind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838080" y="379080"/>
            <a:ext cx="7759800" cy="297000"/>
            <a:chOff x="838080" y="379080"/>
            <a:chExt cx="7759800" cy="297000"/>
          </a:xfrm>
        </p:grpSpPr>
        <p:sp>
          <p:nvSpPr>
            <p:cNvPr id="56" name=""/>
            <p:cNvSpPr/>
            <p:nvPr/>
          </p:nvSpPr>
          <p:spPr>
            <a:xfrm>
              <a:off x="838080" y="666720"/>
              <a:ext cx="77583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8596440" y="379080"/>
              <a:ext cx="1440" cy="2970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Nimeruumid (namespaces)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2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XML formaadi üks põhieelis on see, et: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ui kahel erineval keelel A ja B on mõlemal XML süntaks, siis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aab A keelse teksti sisse panna teksti keeles B, ja tulemus on korrektne XML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is juhtub aga siis, kui nii keeles A kui B on sama tag, aga eri tähendusega? Siis me ei saa kokkupandud tekstis aru, kumb tähendus võtta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838080" y="379080"/>
            <a:ext cx="7759800" cy="297000"/>
            <a:chOff x="838080" y="379080"/>
            <a:chExt cx="7759800" cy="297000"/>
          </a:xfrm>
        </p:grpSpPr>
        <p:sp>
          <p:nvSpPr>
            <p:cNvPr id="151" name=""/>
            <p:cNvSpPr/>
            <p:nvPr/>
          </p:nvSpPr>
          <p:spPr>
            <a:xfrm>
              <a:off x="838080" y="666720"/>
              <a:ext cx="77583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V="1">
              <a:off x="8596440" y="379080"/>
              <a:ext cx="1440" cy="2970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3" name=""/>
          <p:cNvSpPr/>
          <p:nvPr/>
        </p:nvSpPr>
        <p:spPr>
          <a:xfrm>
            <a:off x="1270080" y="3468600"/>
            <a:ext cx="2771640" cy="2687760"/>
          </a:xfrm>
          <a:prstGeom prst="roundRect">
            <a:avLst>
              <a:gd name="adj" fmla="val 5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616280" y="3444840"/>
            <a:ext cx="3542040" cy="2687760"/>
          </a:xfrm>
          <a:prstGeom prst="roundRect">
            <a:avLst>
              <a:gd name="adj" fmla="val 5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924120" y="3760920"/>
            <a:ext cx="3528720" cy="1851120"/>
          </a:xfrm>
          <a:prstGeom prst="roundRect">
            <a:avLst>
              <a:gd name="adj" fmla="val 8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1" marL="731880" indent="-274680">
              <a:lnSpc>
                <a:spcPct val="97000"/>
              </a:lnSpc>
              <a:spcBef>
                <a:spcPts val="400"/>
              </a:spcBef>
              <a:tabLst>
                <a:tab algn="l" pos="0"/>
                <a:tab algn="l" pos="731880"/>
                <a:tab algn="l" pos="1189080"/>
                <a:tab algn="l" pos="1646280"/>
                <a:tab algn="l" pos="2103480"/>
                <a:tab algn="l" pos="2560680"/>
                <a:tab algn="l" pos="3017880"/>
                <a:tab algn="l" pos="3475080"/>
                <a:tab algn="l" pos="3932280"/>
                <a:tab algn="l" pos="4389480"/>
                <a:tab algn="l" pos="4846680"/>
                <a:tab algn="l" pos="5303880"/>
                <a:tab algn="l" pos="5761080"/>
                <a:tab algn="l" pos="6218280"/>
                <a:tab algn="l" pos="6675480"/>
                <a:tab algn="l" pos="7132680"/>
                <a:tab algn="l" pos="7589880"/>
                <a:tab algn="l" pos="8047080"/>
                <a:tab algn="l" pos="8504280"/>
                <a:tab algn="l" pos="8961480"/>
                <a:tab algn="l" pos="9418680"/>
                <a:tab algn="l" pos="987588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&lt;tabl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1880" indent="-274680">
              <a:lnSpc>
                <a:spcPct val="97000"/>
              </a:lnSpc>
              <a:spcBef>
                <a:spcPts val="400"/>
              </a:spcBef>
              <a:tabLst>
                <a:tab algn="l" pos="0"/>
                <a:tab algn="l" pos="731880"/>
                <a:tab algn="l" pos="1189080"/>
                <a:tab algn="l" pos="1646280"/>
                <a:tab algn="l" pos="2103480"/>
                <a:tab algn="l" pos="2560680"/>
                <a:tab algn="l" pos="3017880"/>
                <a:tab algn="l" pos="3475080"/>
                <a:tab algn="l" pos="3932280"/>
                <a:tab algn="l" pos="4389480"/>
                <a:tab algn="l" pos="4846680"/>
                <a:tab algn="l" pos="5303880"/>
                <a:tab algn="l" pos="5761080"/>
                <a:tab algn="l" pos="6218280"/>
                <a:tab algn="l" pos="6675480"/>
                <a:tab algn="l" pos="7132680"/>
                <a:tab algn="l" pos="7589880"/>
                <a:tab algn="l" pos="8047080"/>
                <a:tab algn="l" pos="8504280"/>
                <a:tab algn="l" pos="8961480"/>
                <a:tab algn="l" pos="9418680"/>
                <a:tab algn="l" pos="987588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&lt;tr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1880" indent="-274680">
              <a:lnSpc>
                <a:spcPct val="97000"/>
              </a:lnSpc>
              <a:spcBef>
                <a:spcPts val="400"/>
              </a:spcBef>
              <a:tabLst>
                <a:tab algn="l" pos="0"/>
                <a:tab algn="l" pos="731880"/>
                <a:tab algn="l" pos="1189080"/>
                <a:tab algn="l" pos="1646280"/>
                <a:tab algn="l" pos="2103480"/>
                <a:tab algn="l" pos="2560680"/>
                <a:tab algn="l" pos="3017880"/>
                <a:tab algn="l" pos="3475080"/>
                <a:tab algn="l" pos="3932280"/>
                <a:tab algn="l" pos="4389480"/>
                <a:tab algn="l" pos="4846680"/>
                <a:tab algn="l" pos="5303880"/>
                <a:tab algn="l" pos="5761080"/>
                <a:tab algn="l" pos="6218280"/>
                <a:tab algn="l" pos="6675480"/>
                <a:tab algn="l" pos="7132680"/>
                <a:tab algn="l" pos="7589880"/>
                <a:tab algn="l" pos="8047080"/>
                <a:tab algn="l" pos="8504280"/>
                <a:tab algn="l" pos="8961480"/>
                <a:tab algn="l" pos="9418680"/>
                <a:tab algn="l" pos="987588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&lt;td&gt;Apples&lt;/td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1880" indent="-274680">
              <a:lnSpc>
                <a:spcPct val="97000"/>
              </a:lnSpc>
              <a:spcBef>
                <a:spcPts val="400"/>
              </a:spcBef>
              <a:tabLst>
                <a:tab algn="l" pos="0"/>
                <a:tab algn="l" pos="731880"/>
                <a:tab algn="l" pos="1189080"/>
                <a:tab algn="l" pos="1646280"/>
                <a:tab algn="l" pos="2103480"/>
                <a:tab algn="l" pos="2560680"/>
                <a:tab algn="l" pos="3017880"/>
                <a:tab algn="l" pos="3475080"/>
                <a:tab algn="l" pos="3932280"/>
                <a:tab algn="l" pos="4389480"/>
                <a:tab algn="l" pos="4846680"/>
                <a:tab algn="l" pos="5303880"/>
                <a:tab algn="l" pos="5761080"/>
                <a:tab algn="l" pos="6218280"/>
                <a:tab algn="l" pos="6675480"/>
                <a:tab algn="l" pos="7132680"/>
                <a:tab algn="l" pos="7589880"/>
                <a:tab algn="l" pos="8047080"/>
                <a:tab algn="l" pos="8504280"/>
                <a:tab algn="l" pos="8961480"/>
                <a:tab algn="l" pos="9418680"/>
                <a:tab algn="l" pos="987588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&lt;td&gt;Bananas&lt;/td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1880" indent="-274680">
              <a:lnSpc>
                <a:spcPct val="97000"/>
              </a:lnSpc>
              <a:spcBef>
                <a:spcPts val="400"/>
              </a:spcBef>
              <a:tabLst>
                <a:tab algn="l" pos="0"/>
                <a:tab algn="l" pos="731880"/>
                <a:tab algn="l" pos="1189080"/>
                <a:tab algn="l" pos="1646280"/>
                <a:tab algn="l" pos="2103480"/>
                <a:tab algn="l" pos="2560680"/>
                <a:tab algn="l" pos="3017880"/>
                <a:tab algn="l" pos="3475080"/>
                <a:tab algn="l" pos="3932280"/>
                <a:tab algn="l" pos="4389480"/>
                <a:tab algn="l" pos="4846680"/>
                <a:tab algn="l" pos="5303880"/>
                <a:tab algn="l" pos="5761080"/>
                <a:tab algn="l" pos="6218280"/>
                <a:tab algn="l" pos="6675480"/>
                <a:tab algn="l" pos="7132680"/>
                <a:tab algn="l" pos="7589880"/>
                <a:tab algn="l" pos="8047080"/>
                <a:tab algn="l" pos="8504280"/>
                <a:tab algn="l" pos="8961480"/>
                <a:tab algn="l" pos="9418680"/>
                <a:tab algn="l" pos="987588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&lt;/tr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1880" indent="-274680">
              <a:lnSpc>
                <a:spcPct val="97000"/>
              </a:lnSpc>
              <a:spcBef>
                <a:spcPts val="400"/>
              </a:spcBef>
              <a:tabLst>
                <a:tab algn="l" pos="0"/>
                <a:tab algn="l" pos="731880"/>
                <a:tab algn="l" pos="1189080"/>
                <a:tab algn="l" pos="1646280"/>
                <a:tab algn="l" pos="2103480"/>
                <a:tab algn="l" pos="2560680"/>
                <a:tab algn="l" pos="3017880"/>
                <a:tab algn="l" pos="3475080"/>
                <a:tab algn="l" pos="3932280"/>
                <a:tab algn="l" pos="4389480"/>
                <a:tab algn="l" pos="4846680"/>
                <a:tab algn="l" pos="5303880"/>
                <a:tab algn="l" pos="5761080"/>
                <a:tab algn="l" pos="6218280"/>
                <a:tab algn="l" pos="6675480"/>
                <a:tab algn="l" pos="7132680"/>
                <a:tab algn="l" pos="7589880"/>
                <a:tab algn="l" pos="8047080"/>
                <a:tab algn="l" pos="8504280"/>
                <a:tab algn="l" pos="8961480"/>
                <a:tab algn="l" pos="9418680"/>
                <a:tab algn="l" pos="987588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&lt;/tabl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676760" y="3724200"/>
            <a:ext cx="2958120" cy="1863360"/>
          </a:xfrm>
          <a:prstGeom prst="roundRect">
            <a:avLst>
              <a:gd name="adj" fmla="val 8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&lt;tabl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name&gt;Africa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Coffee T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/nam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width&gt;80&lt;/width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length&gt;120&lt;/length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/tabl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Nimeruumid 2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38080" y="990360"/>
            <a:ext cx="7848720" cy="623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ahenduse idee: paneme iga tagi ette kooloniga eraldatult keele nime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Võtame vasakul tabelis (HTML) keele nimeks h ja paremal (furniture) f: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Nüüd on vasakul ja paremal erinevad tagid, konflikti pole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838080" y="379080"/>
            <a:ext cx="7759800" cy="297000"/>
            <a:chOff x="838080" y="379080"/>
            <a:chExt cx="7759800" cy="297000"/>
          </a:xfrm>
        </p:grpSpPr>
        <p:sp>
          <p:nvSpPr>
            <p:cNvPr id="160" name=""/>
            <p:cNvSpPr/>
            <p:nvPr/>
          </p:nvSpPr>
          <p:spPr>
            <a:xfrm>
              <a:off x="838080" y="666720"/>
              <a:ext cx="77583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V="1">
              <a:off x="8596440" y="379080"/>
              <a:ext cx="1440" cy="2970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2" name=""/>
          <p:cNvSpPr/>
          <p:nvPr/>
        </p:nvSpPr>
        <p:spPr>
          <a:xfrm>
            <a:off x="1147680" y="2430360"/>
            <a:ext cx="3102120" cy="2698920"/>
          </a:xfrm>
          <a:prstGeom prst="roundRect">
            <a:avLst>
              <a:gd name="adj" fmla="val 5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603680" y="2430360"/>
            <a:ext cx="3541680" cy="2687760"/>
          </a:xfrm>
          <a:prstGeom prst="roundRect">
            <a:avLst>
              <a:gd name="adj" fmla="val 5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12800" y="2673360"/>
            <a:ext cx="3973680" cy="1851120"/>
          </a:xfrm>
          <a:prstGeom prst="roundRect">
            <a:avLst>
              <a:gd name="adj" fmla="val 8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1" marL="731880" indent="-274680">
              <a:lnSpc>
                <a:spcPct val="97000"/>
              </a:lnSpc>
              <a:spcBef>
                <a:spcPts val="400"/>
              </a:spcBef>
              <a:tabLst>
                <a:tab algn="l" pos="0"/>
                <a:tab algn="l" pos="731880"/>
                <a:tab algn="l" pos="1189080"/>
                <a:tab algn="l" pos="1646280"/>
                <a:tab algn="l" pos="2103480"/>
                <a:tab algn="l" pos="2560680"/>
                <a:tab algn="l" pos="3017880"/>
                <a:tab algn="l" pos="3475080"/>
                <a:tab algn="l" pos="3932280"/>
                <a:tab algn="l" pos="4389480"/>
                <a:tab algn="l" pos="4846680"/>
                <a:tab algn="l" pos="5303880"/>
                <a:tab algn="l" pos="5761080"/>
                <a:tab algn="l" pos="6218280"/>
                <a:tab algn="l" pos="6675480"/>
                <a:tab algn="l" pos="7132680"/>
                <a:tab algn="l" pos="7589880"/>
                <a:tab algn="l" pos="8047080"/>
                <a:tab algn="l" pos="8504280"/>
                <a:tab algn="l" pos="8961480"/>
                <a:tab algn="l" pos="9418680"/>
                <a:tab algn="l" pos="987588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&lt;h:tabl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1880" indent="-274680">
              <a:lnSpc>
                <a:spcPct val="97000"/>
              </a:lnSpc>
              <a:spcBef>
                <a:spcPts val="400"/>
              </a:spcBef>
              <a:tabLst>
                <a:tab algn="l" pos="0"/>
                <a:tab algn="l" pos="731880"/>
                <a:tab algn="l" pos="1189080"/>
                <a:tab algn="l" pos="1646280"/>
                <a:tab algn="l" pos="2103480"/>
                <a:tab algn="l" pos="2560680"/>
                <a:tab algn="l" pos="3017880"/>
                <a:tab algn="l" pos="3475080"/>
                <a:tab algn="l" pos="3932280"/>
                <a:tab algn="l" pos="4389480"/>
                <a:tab algn="l" pos="4846680"/>
                <a:tab algn="l" pos="5303880"/>
                <a:tab algn="l" pos="5761080"/>
                <a:tab algn="l" pos="6218280"/>
                <a:tab algn="l" pos="6675480"/>
                <a:tab algn="l" pos="7132680"/>
                <a:tab algn="l" pos="7589880"/>
                <a:tab algn="l" pos="8047080"/>
                <a:tab algn="l" pos="8504280"/>
                <a:tab algn="l" pos="8961480"/>
                <a:tab algn="l" pos="9418680"/>
                <a:tab algn="l" pos="987588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&lt;h:tr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1880" indent="-274680">
              <a:lnSpc>
                <a:spcPct val="97000"/>
              </a:lnSpc>
              <a:spcBef>
                <a:spcPts val="400"/>
              </a:spcBef>
              <a:tabLst>
                <a:tab algn="l" pos="0"/>
                <a:tab algn="l" pos="731880"/>
                <a:tab algn="l" pos="1189080"/>
                <a:tab algn="l" pos="1646280"/>
                <a:tab algn="l" pos="2103480"/>
                <a:tab algn="l" pos="2560680"/>
                <a:tab algn="l" pos="3017880"/>
                <a:tab algn="l" pos="3475080"/>
                <a:tab algn="l" pos="3932280"/>
                <a:tab algn="l" pos="4389480"/>
                <a:tab algn="l" pos="4846680"/>
                <a:tab algn="l" pos="5303880"/>
                <a:tab algn="l" pos="5761080"/>
                <a:tab algn="l" pos="6218280"/>
                <a:tab algn="l" pos="6675480"/>
                <a:tab algn="l" pos="7132680"/>
                <a:tab algn="l" pos="7589880"/>
                <a:tab algn="l" pos="8047080"/>
                <a:tab algn="l" pos="8504280"/>
                <a:tab algn="l" pos="8961480"/>
                <a:tab algn="l" pos="9418680"/>
                <a:tab algn="l" pos="987588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&lt;h:td&gt;Apples&lt;/h:td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1880" indent="-274680">
              <a:lnSpc>
                <a:spcPct val="97000"/>
              </a:lnSpc>
              <a:spcBef>
                <a:spcPts val="400"/>
              </a:spcBef>
              <a:tabLst>
                <a:tab algn="l" pos="0"/>
                <a:tab algn="l" pos="731880"/>
                <a:tab algn="l" pos="1189080"/>
                <a:tab algn="l" pos="1646280"/>
                <a:tab algn="l" pos="2103480"/>
                <a:tab algn="l" pos="2560680"/>
                <a:tab algn="l" pos="3017880"/>
                <a:tab algn="l" pos="3475080"/>
                <a:tab algn="l" pos="3932280"/>
                <a:tab algn="l" pos="4389480"/>
                <a:tab algn="l" pos="4846680"/>
                <a:tab algn="l" pos="5303880"/>
                <a:tab algn="l" pos="5761080"/>
                <a:tab algn="l" pos="6218280"/>
                <a:tab algn="l" pos="6675480"/>
                <a:tab algn="l" pos="7132680"/>
                <a:tab algn="l" pos="7589880"/>
                <a:tab algn="l" pos="8047080"/>
                <a:tab algn="l" pos="8504280"/>
                <a:tab algn="l" pos="8961480"/>
                <a:tab algn="l" pos="9418680"/>
                <a:tab algn="l" pos="987588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&lt;h:td&gt;Bananas&lt;/h:td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1880" indent="-274680">
              <a:lnSpc>
                <a:spcPct val="97000"/>
              </a:lnSpc>
              <a:spcBef>
                <a:spcPts val="400"/>
              </a:spcBef>
              <a:tabLst>
                <a:tab algn="l" pos="0"/>
                <a:tab algn="l" pos="731880"/>
                <a:tab algn="l" pos="1189080"/>
                <a:tab algn="l" pos="1646280"/>
                <a:tab algn="l" pos="2103480"/>
                <a:tab algn="l" pos="2560680"/>
                <a:tab algn="l" pos="3017880"/>
                <a:tab algn="l" pos="3475080"/>
                <a:tab algn="l" pos="3932280"/>
                <a:tab algn="l" pos="4389480"/>
                <a:tab algn="l" pos="4846680"/>
                <a:tab algn="l" pos="5303880"/>
                <a:tab algn="l" pos="5761080"/>
                <a:tab algn="l" pos="6218280"/>
                <a:tab algn="l" pos="6675480"/>
                <a:tab algn="l" pos="7132680"/>
                <a:tab algn="l" pos="7589880"/>
                <a:tab algn="l" pos="8047080"/>
                <a:tab algn="l" pos="8504280"/>
                <a:tab algn="l" pos="8961480"/>
                <a:tab algn="l" pos="9418680"/>
                <a:tab algn="l" pos="987588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&lt;/h:tr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1880" indent="-274680">
              <a:lnSpc>
                <a:spcPct val="97000"/>
              </a:lnSpc>
              <a:spcBef>
                <a:spcPts val="400"/>
              </a:spcBef>
              <a:tabLst>
                <a:tab algn="l" pos="0"/>
                <a:tab algn="l" pos="731880"/>
                <a:tab algn="l" pos="1189080"/>
                <a:tab algn="l" pos="1646280"/>
                <a:tab algn="l" pos="2103480"/>
                <a:tab algn="l" pos="2560680"/>
                <a:tab algn="l" pos="3017880"/>
                <a:tab algn="l" pos="3475080"/>
                <a:tab algn="l" pos="3932280"/>
                <a:tab algn="l" pos="4389480"/>
                <a:tab algn="l" pos="4846680"/>
                <a:tab algn="l" pos="5303880"/>
                <a:tab algn="l" pos="5761080"/>
                <a:tab algn="l" pos="6218280"/>
                <a:tab algn="l" pos="6675480"/>
                <a:tab algn="l" pos="7132680"/>
                <a:tab algn="l" pos="7589880"/>
                <a:tab algn="l" pos="8047080"/>
                <a:tab algn="l" pos="8504280"/>
                <a:tab algn="l" pos="8961480"/>
                <a:tab algn="l" pos="9418680"/>
                <a:tab algn="l" pos="987588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&lt;/h:tabl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680000" y="2673360"/>
            <a:ext cx="3275280" cy="1863360"/>
          </a:xfrm>
          <a:prstGeom prst="roundRect">
            <a:avLst>
              <a:gd name="adj" fmla="val 8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&lt;f:tabl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f:name&gt;Africa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Coffee T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/f:nam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f:width&gt;80&lt;/f:width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f:length&gt;120&lt;/f:length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/f:tabl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Nimeruumid 3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811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Kuidas aga tagada, et kaks eri keelt ei võtaks sama nime?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Idee: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Olgu keelte nimed (soovitavalt) hästi pikad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asutame nimena URL-i (a la</a:t>
            </a:r>
            <a:r>
              <a:rPr b="0" lang="en-GB" sz="1800" spc="-1" strike="noStrike">
                <a:solidFill>
                  <a:srgbClr val="000080"/>
                </a:solidFill>
                <a:latin typeface="Bitstream Vera Sans"/>
              </a:rPr>
              <a:t> </a:t>
            </a:r>
            <a:r>
              <a:rPr b="0" lang="en-GB" sz="1800" spc="-1" strike="noStrike" u="sng">
                <a:solidFill>
                  <a:srgbClr val="ccccff"/>
                </a:solidFill>
                <a:uFillTx/>
                <a:latin typeface="Bitstream Vera Sans"/>
                <a:hlinkClick r:id="rId1"/>
              </a:rPr>
              <a:t>http://www.ttu.ee/it/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xkeel)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iis saab keele inmloetava kirjelduse panna selle URLi peale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iis on igal keeletegijal mõttekas kasutada URL-i, kuhu ta saab oma kirjelduse riputada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Näiteks, kui ma teeksin oma keele nimega </a:t>
            </a:r>
            <a:r>
              <a:rPr b="0" lang="en-GB" sz="1800" spc="-1" strike="noStrike" u="sng">
                <a:solidFill>
                  <a:srgbClr val="ccccff"/>
                </a:solidFill>
                <a:uFillTx/>
                <a:latin typeface="Bitstream Vera Sans"/>
                <a:hlinkClick r:id="rId2"/>
              </a:rPr>
              <a:t>http://www.microsoft.com/xlang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, siis vaevalt mul õnnestub sellele URL-ile mingit teksti riputada!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iis on vähe tõenäoline, et eri keelte nimed kattuvad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Probleem: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pikka keele nime on ebameeldiv iga tagi ette kirjutada: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</a:t>
            </a:r>
            <a:r>
              <a:rPr b="0" lang="en-GB" sz="1800" spc="-1" strike="noStrike" u="sng">
                <a:solidFill>
                  <a:srgbClr val="ccccff"/>
                </a:solidFill>
                <a:uFillTx/>
                <a:latin typeface="Bitstream Vera Sans"/>
                <a:hlinkClick r:id="rId3"/>
              </a:rPr>
              <a:t>http://www.ttu.ee/it/</a:t>
            </a:r>
            <a:r>
              <a:rPr b="0" lang="en-GB" sz="1800" spc="-1" strike="noStrike">
                <a:solidFill>
                  <a:srgbClr val="000080"/>
                </a:solidFill>
                <a:latin typeface="Bitstream Vera Sans"/>
              </a:rPr>
              <a:t>xkeel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:table&gt; oleks halb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Lahendus: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kasutame tagi alguses nime lühendit, mis on XML tekstis varem defineeritud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838080" y="379080"/>
            <a:ext cx="7759800" cy="297000"/>
            <a:chOff x="838080" y="379080"/>
            <a:chExt cx="7759800" cy="297000"/>
          </a:xfrm>
        </p:grpSpPr>
        <p:sp>
          <p:nvSpPr>
            <p:cNvPr id="169" name=""/>
            <p:cNvSpPr/>
            <p:nvPr/>
          </p:nvSpPr>
          <p:spPr>
            <a:xfrm>
              <a:off x="838080" y="666720"/>
              <a:ext cx="77583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V="1">
              <a:off x="8596440" y="379080"/>
              <a:ext cx="1440" cy="2970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Nimeruumid: standardi kasutamise näid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240" y="762120"/>
            <a:ext cx="8915400" cy="684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97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60440"/>
                <a:tab algn="l" pos="917640"/>
                <a:tab algn="l" pos="1374840"/>
                <a:tab algn="l" pos="1832040"/>
                <a:tab algn="l" pos="2289240"/>
                <a:tab algn="l" pos="2746440"/>
                <a:tab algn="l" pos="3203640"/>
                <a:tab algn="l" pos="3660840"/>
                <a:tab algn="l" pos="4118040"/>
                <a:tab algn="l" pos="4575240"/>
                <a:tab algn="l" pos="5032440"/>
                <a:tab algn="l" pos="5489640"/>
                <a:tab algn="l" pos="5946840"/>
                <a:tab algn="l" pos="6404040"/>
                <a:tab algn="l" pos="6861240"/>
                <a:tab algn="l" pos="7318440"/>
                <a:tab algn="l" pos="7775640"/>
                <a:tab algn="l" pos="8232840"/>
                <a:tab algn="l" pos="8690040"/>
                <a:tab algn="l" pos="914724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XML nimeruumide standard näeb ette: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-2811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60440"/>
                <a:tab algn="l" pos="917640"/>
                <a:tab algn="l" pos="1374840"/>
                <a:tab algn="l" pos="1832040"/>
                <a:tab algn="l" pos="2289240"/>
                <a:tab algn="l" pos="2746440"/>
                <a:tab algn="l" pos="3203640"/>
                <a:tab algn="l" pos="3660840"/>
                <a:tab algn="l" pos="4118040"/>
                <a:tab algn="l" pos="4575240"/>
                <a:tab algn="l" pos="5032440"/>
                <a:tab algn="l" pos="5489640"/>
                <a:tab algn="l" pos="5946840"/>
                <a:tab algn="l" pos="6404040"/>
                <a:tab algn="l" pos="6861240"/>
                <a:tab algn="l" pos="7318440"/>
                <a:tab algn="l" pos="7775640"/>
                <a:tab algn="l" pos="8232840"/>
                <a:tab algn="l" pos="8690040"/>
                <a:tab algn="l" pos="914724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ga tagi ette võib olla kirjutatud, mis keeles ta on 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60440"/>
                <a:tab algn="l" pos="917640"/>
                <a:tab algn="l" pos="1374840"/>
                <a:tab algn="l" pos="1832040"/>
                <a:tab algn="l" pos="2289240"/>
                <a:tab algn="l" pos="2746440"/>
                <a:tab algn="l" pos="3203640"/>
                <a:tab algn="l" pos="3660840"/>
                <a:tab algn="l" pos="4118040"/>
                <a:tab algn="l" pos="4575240"/>
                <a:tab algn="l" pos="5032440"/>
                <a:tab algn="l" pos="5489640"/>
                <a:tab algn="l" pos="5946840"/>
                <a:tab algn="l" pos="6404040"/>
                <a:tab algn="l" pos="6861240"/>
                <a:tab algn="l" pos="7318440"/>
                <a:tab algn="l" pos="7775640"/>
                <a:tab algn="l" pos="8232840"/>
                <a:tab algn="l" pos="8690040"/>
                <a:tab algn="l" pos="914724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keelelyhend:tag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-28116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60440"/>
                <a:tab algn="l" pos="917640"/>
                <a:tab algn="l" pos="1374840"/>
                <a:tab algn="l" pos="1832040"/>
                <a:tab algn="l" pos="2289240"/>
                <a:tab algn="l" pos="2746440"/>
                <a:tab algn="l" pos="3203640"/>
                <a:tab algn="l" pos="3660840"/>
                <a:tab algn="l" pos="4118040"/>
                <a:tab algn="l" pos="4575240"/>
                <a:tab algn="l" pos="5032440"/>
                <a:tab algn="l" pos="5489640"/>
                <a:tab algn="l" pos="5946840"/>
                <a:tab algn="l" pos="6404040"/>
                <a:tab algn="l" pos="6861240"/>
                <a:tab algn="l" pos="7318440"/>
                <a:tab algn="l" pos="7775640"/>
                <a:tab algn="l" pos="8232840"/>
                <a:tab algn="l" pos="8690040"/>
                <a:tab algn="l" pos="914724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Nime lisamine tagile ei ole kohustuslik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-2811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60440"/>
                <a:tab algn="l" pos="917640"/>
                <a:tab algn="l" pos="1374840"/>
                <a:tab algn="l" pos="1832040"/>
                <a:tab algn="l" pos="2289240"/>
                <a:tab algn="l" pos="2746440"/>
                <a:tab algn="l" pos="3203640"/>
                <a:tab algn="l" pos="3660840"/>
                <a:tab algn="l" pos="4118040"/>
                <a:tab algn="l" pos="4575240"/>
                <a:tab algn="l" pos="5032440"/>
                <a:tab algn="l" pos="5489640"/>
                <a:tab algn="l" pos="5946840"/>
                <a:tab algn="l" pos="6404040"/>
                <a:tab algn="l" pos="6861240"/>
                <a:tab algn="l" pos="7318440"/>
                <a:tab algn="l" pos="7775640"/>
                <a:tab algn="l" pos="8232840"/>
                <a:tab algn="l" pos="8690040"/>
                <a:tab algn="l" pos="914724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eelte nimedeks kasutatakse URI-sid (URL-e)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-28116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60440"/>
                <a:tab algn="l" pos="917640"/>
                <a:tab algn="l" pos="1374840"/>
                <a:tab algn="l" pos="1832040"/>
                <a:tab algn="l" pos="2289240"/>
                <a:tab algn="l" pos="2746440"/>
                <a:tab algn="l" pos="3203640"/>
                <a:tab algn="l" pos="3660840"/>
                <a:tab algn="l" pos="4118040"/>
                <a:tab algn="l" pos="4575240"/>
                <a:tab algn="l" pos="5032440"/>
                <a:tab algn="l" pos="5489640"/>
                <a:tab algn="l" pos="5946840"/>
                <a:tab algn="l" pos="6404040"/>
                <a:tab algn="l" pos="6861240"/>
                <a:tab algn="l" pos="7318440"/>
                <a:tab algn="l" pos="7775640"/>
                <a:tab algn="l" pos="8232840"/>
                <a:tab algn="l" pos="8690040"/>
                <a:tab algn="l" pos="914724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ühendite definitsioonid on spetsiaalatribuudid tagidel kujuga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xmlns:lyhend=”taisnimi”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60440"/>
                <a:tab algn="l" pos="917640"/>
                <a:tab algn="l" pos="1374840"/>
                <a:tab algn="l" pos="1832040"/>
                <a:tab algn="l" pos="2289240"/>
                <a:tab algn="l" pos="2746440"/>
                <a:tab algn="l" pos="3203640"/>
                <a:tab algn="l" pos="3660840"/>
                <a:tab algn="l" pos="4118040"/>
                <a:tab algn="l" pos="4575240"/>
                <a:tab algn="l" pos="5032440"/>
                <a:tab algn="l" pos="5489640"/>
                <a:tab algn="l" pos="5946840"/>
                <a:tab algn="l" pos="6404040"/>
                <a:tab algn="l" pos="6861240"/>
                <a:tab algn="l" pos="7318440"/>
                <a:tab algn="l" pos="7775640"/>
                <a:tab algn="l" pos="8232840"/>
                <a:tab algn="l" pos="8690040"/>
                <a:tab algn="l" pos="914724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?xml version="1.0"?&gt; 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60440"/>
                <a:tab algn="l" pos="917640"/>
                <a:tab algn="l" pos="1374840"/>
                <a:tab algn="l" pos="1832040"/>
                <a:tab algn="l" pos="2289240"/>
                <a:tab algn="l" pos="2746440"/>
                <a:tab algn="l" pos="3203640"/>
                <a:tab algn="l" pos="3660840"/>
                <a:tab algn="l" pos="4118040"/>
                <a:tab algn="l" pos="4575240"/>
                <a:tab algn="l" pos="5032440"/>
                <a:tab algn="l" pos="5489640"/>
                <a:tab algn="l" pos="5946840"/>
                <a:tab algn="l" pos="6404040"/>
                <a:tab algn="l" pos="6861240"/>
                <a:tab algn="l" pos="7318440"/>
                <a:tab algn="l" pos="7775640"/>
                <a:tab algn="l" pos="8232840"/>
                <a:tab algn="l" pos="8690040"/>
                <a:tab algn="l" pos="914724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rdf:RDF xmlns:rdf="http://www.w3.org/1999/02/22-rdf-syntax-ns#" 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60440"/>
                <a:tab algn="l" pos="917640"/>
                <a:tab algn="l" pos="1374840"/>
                <a:tab algn="l" pos="1832040"/>
                <a:tab algn="l" pos="2289240"/>
                <a:tab algn="l" pos="2746440"/>
                <a:tab algn="l" pos="3203640"/>
                <a:tab algn="l" pos="3660840"/>
                <a:tab algn="l" pos="4118040"/>
                <a:tab algn="l" pos="4575240"/>
                <a:tab algn="l" pos="5032440"/>
                <a:tab algn="l" pos="5489640"/>
                <a:tab algn="l" pos="5946840"/>
                <a:tab algn="l" pos="6404040"/>
                <a:tab algn="l" pos="6861240"/>
                <a:tab algn="l" pos="7318440"/>
                <a:tab algn="l" pos="7775640"/>
                <a:tab algn="l" pos="8232840"/>
                <a:tab algn="l" pos="8690040"/>
                <a:tab algn="l" pos="914724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xmlns:dc="http://purl.org/dc/elements/1.1/" 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60440"/>
                <a:tab algn="l" pos="917640"/>
                <a:tab algn="l" pos="1374840"/>
                <a:tab algn="l" pos="1832040"/>
                <a:tab algn="l" pos="2289240"/>
                <a:tab algn="l" pos="2746440"/>
                <a:tab algn="l" pos="3203640"/>
                <a:tab algn="l" pos="3660840"/>
                <a:tab algn="l" pos="4118040"/>
                <a:tab algn="l" pos="4575240"/>
                <a:tab algn="l" pos="5032440"/>
                <a:tab algn="l" pos="5489640"/>
                <a:tab algn="l" pos="5946840"/>
                <a:tab algn="l" pos="6404040"/>
                <a:tab algn="l" pos="6861240"/>
                <a:tab algn="l" pos="7318440"/>
                <a:tab algn="l" pos="7775640"/>
                <a:tab algn="l" pos="8232840"/>
                <a:tab algn="l" pos="8690040"/>
                <a:tab algn="l" pos="914724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xmlns:ex="http://www.example.org/terms/"&gt; 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60440"/>
                <a:tab algn="l" pos="917640"/>
                <a:tab algn="l" pos="1374840"/>
                <a:tab algn="l" pos="1832040"/>
                <a:tab algn="l" pos="2289240"/>
                <a:tab algn="l" pos="2746440"/>
                <a:tab algn="l" pos="3203640"/>
                <a:tab algn="l" pos="3660840"/>
                <a:tab algn="l" pos="4118040"/>
                <a:tab algn="l" pos="4575240"/>
                <a:tab algn="l" pos="5032440"/>
                <a:tab algn="l" pos="5489640"/>
                <a:tab algn="l" pos="5946840"/>
                <a:tab algn="l" pos="6404040"/>
                <a:tab algn="l" pos="6861240"/>
                <a:tab algn="l" pos="7318440"/>
                <a:tab algn="l" pos="7775640"/>
                <a:tab algn="l" pos="8232840"/>
                <a:tab algn="l" pos="8690040"/>
                <a:tab algn="l" pos="914724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rdf:Description rdf:about="http://www.example.org/index.html"&gt; 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60440"/>
                <a:tab algn="l" pos="917640"/>
                <a:tab algn="l" pos="1374840"/>
                <a:tab algn="l" pos="1832040"/>
                <a:tab algn="l" pos="2289240"/>
                <a:tab algn="l" pos="2746440"/>
                <a:tab algn="l" pos="3203640"/>
                <a:tab algn="l" pos="3660840"/>
                <a:tab algn="l" pos="4118040"/>
                <a:tab algn="l" pos="4575240"/>
                <a:tab algn="l" pos="5032440"/>
                <a:tab algn="l" pos="5489640"/>
                <a:tab algn="l" pos="5946840"/>
                <a:tab algn="l" pos="6404040"/>
                <a:tab algn="l" pos="6861240"/>
                <a:tab algn="l" pos="7318440"/>
                <a:tab algn="l" pos="7775640"/>
                <a:tab algn="l" pos="8232840"/>
                <a:tab algn="l" pos="8690040"/>
                <a:tab algn="l" pos="914724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ex:creation-date&gt;August 16, 1999&lt;/ex:creation-date&gt; 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60440"/>
                <a:tab algn="l" pos="917640"/>
                <a:tab algn="l" pos="1374840"/>
                <a:tab algn="l" pos="1832040"/>
                <a:tab algn="l" pos="2289240"/>
                <a:tab algn="l" pos="2746440"/>
                <a:tab algn="l" pos="3203640"/>
                <a:tab algn="l" pos="3660840"/>
                <a:tab algn="l" pos="4118040"/>
                <a:tab algn="l" pos="4575240"/>
                <a:tab algn="l" pos="5032440"/>
                <a:tab algn="l" pos="5489640"/>
                <a:tab algn="l" pos="5946840"/>
                <a:tab algn="l" pos="6404040"/>
                <a:tab algn="l" pos="6861240"/>
                <a:tab algn="l" pos="7318440"/>
                <a:tab algn="l" pos="7775640"/>
                <a:tab algn="l" pos="8232840"/>
                <a:tab algn="l" pos="8690040"/>
                <a:tab algn="l" pos="914724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ex:language&gt;English&lt;/ex:language&gt; 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60440"/>
                <a:tab algn="l" pos="917640"/>
                <a:tab algn="l" pos="1374840"/>
                <a:tab algn="l" pos="1832040"/>
                <a:tab algn="l" pos="2289240"/>
                <a:tab algn="l" pos="2746440"/>
                <a:tab algn="l" pos="3203640"/>
                <a:tab algn="l" pos="3660840"/>
                <a:tab algn="l" pos="4118040"/>
                <a:tab algn="l" pos="4575240"/>
                <a:tab algn="l" pos="5032440"/>
                <a:tab algn="l" pos="5489640"/>
                <a:tab algn="l" pos="5946840"/>
                <a:tab algn="l" pos="6404040"/>
                <a:tab algn="l" pos="6861240"/>
                <a:tab algn="l" pos="7318440"/>
                <a:tab algn="l" pos="7775640"/>
                <a:tab algn="l" pos="8232840"/>
                <a:tab algn="l" pos="8690040"/>
                <a:tab algn="l" pos="914724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dc:creator rdf:resource="http://www.example.org/staffid/85740"/&gt;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60440"/>
                <a:tab algn="l" pos="917640"/>
                <a:tab algn="l" pos="1374840"/>
                <a:tab algn="l" pos="1832040"/>
                <a:tab algn="l" pos="2289240"/>
                <a:tab algn="l" pos="2746440"/>
                <a:tab algn="l" pos="3203640"/>
                <a:tab algn="l" pos="3660840"/>
                <a:tab algn="l" pos="4118040"/>
                <a:tab algn="l" pos="4575240"/>
                <a:tab algn="l" pos="5032440"/>
                <a:tab algn="l" pos="5489640"/>
                <a:tab algn="l" pos="5946840"/>
                <a:tab algn="l" pos="6404040"/>
                <a:tab algn="l" pos="6861240"/>
                <a:tab algn="l" pos="7318440"/>
                <a:tab algn="l" pos="7775640"/>
                <a:tab algn="l" pos="8232840"/>
                <a:tab algn="l" pos="8690040"/>
                <a:tab algn="l" pos="914724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rdf:Description&gt;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60440"/>
                <a:tab algn="l" pos="917640"/>
                <a:tab algn="l" pos="1374840"/>
                <a:tab algn="l" pos="1832040"/>
                <a:tab algn="l" pos="2289240"/>
                <a:tab algn="l" pos="2746440"/>
                <a:tab algn="l" pos="3203640"/>
                <a:tab algn="l" pos="3660840"/>
                <a:tab algn="l" pos="4118040"/>
                <a:tab algn="l" pos="4575240"/>
                <a:tab algn="l" pos="5032440"/>
                <a:tab algn="l" pos="5489640"/>
                <a:tab algn="l" pos="5946840"/>
                <a:tab algn="l" pos="6404040"/>
                <a:tab algn="l" pos="6861240"/>
                <a:tab algn="l" pos="7318440"/>
                <a:tab algn="l" pos="7775640"/>
                <a:tab algn="l" pos="8232840"/>
                <a:tab algn="l" pos="8690040"/>
                <a:tab algn="l" pos="914724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rdf:RDF&gt;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60440"/>
                <a:tab algn="l" pos="917640"/>
                <a:tab algn="l" pos="1374840"/>
                <a:tab algn="l" pos="1832040"/>
                <a:tab algn="l" pos="2289240"/>
                <a:tab algn="l" pos="2746440"/>
                <a:tab algn="l" pos="3203640"/>
                <a:tab algn="l" pos="3660840"/>
                <a:tab algn="l" pos="4118040"/>
                <a:tab algn="l" pos="4575240"/>
                <a:tab algn="l" pos="5032440"/>
                <a:tab algn="l" pos="5489640"/>
                <a:tab algn="l" pos="5946840"/>
                <a:tab algn="l" pos="6404040"/>
                <a:tab algn="l" pos="6861240"/>
                <a:tab algn="l" pos="7318440"/>
                <a:tab algn="l" pos="7775640"/>
                <a:tab algn="l" pos="8232840"/>
                <a:tab algn="l" pos="8690040"/>
                <a:tab algn="l" pos="914724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60440"/>
                <a:tab algn="l" pos="917640"/>
                <a:tab algn="l" pos="1374840"/>
                <a:tab algn="l" pos="1832040"/>
                <a:tab algn="l" pos="2289240"/>
                <a:tab algn="l" pos="2746440"/>
                <a:tab algn="l" pos="3203640"/>
                <a:tab algn="l" pos="3660840"/>
                <a:tab algn="l" pos="4118040"/>
                <a:tab algn="l" pos="4575240"/>
                <a:tab algn="l" pos="5032440"/>
                <a:tab algn="l" pos="5489640"/>
                <a:tab algn="l" pos="5946840"/>
                <a:tab algn="l" pos="6404040"/>
                <a:tab algn="l" pos="6861240"/>
                <a:tab algn="l" pos="7318440"/>
                <a:tab algn="l" pos="7775640"/>
                <a:tab algn="l" pos="8232840"/>
                <a:tab algn="l" pos="8690040"/>
                <a:tab algn="l" pos="914724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60440"/>
                <a:tab algn="l" pos="917640"/>
                <a:tab algn="l" pos="1374840"/>
                <a:tab algn="l" pos="1832040"/>
                <a:tab algn="l" pos="2289240"/>
                <a:tab algn="l" pos="2746440"/>
                <a:tab algn="l" pos="3203640"/>
                <a:tab algn="l" pos="3660840"/>
                <a:tab algn="l" pos="4118040"/>
                <a:tab algn="l" pos="4575240"/>
                <a:tab algn="l" pos="5032440"/>
                <a:tab algn="l" pos="5489640"/>
                <a:tab algn="l" pos="5946840"/>
                <a:tab algn="l" pos="6404040"/>
                <a:tab algn="l" pos="6861240"/>
                <a:tab algn="l" pos="7318440"/>
                <a:tab algn="l" pos="7775640"/>
                <a:tab algn="l" pos="8232840"/>
                <a:tab algn="l" pos="8690040"/>
                <a:tab algn="l" pos="91472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60440"/>
                <a:tab algn="l" pos="917640"/>
                <a:tab algn="l" pos="1374840"/>
                <a:tab algn="l" pos="1832040"/>
                <a:tab algn="l" pos="2289240"/>
                <a:tab algn="l" pos="2746440"/>
                <a:tab algn="l" pos="3203640"/>
                <a:tab algn="l" pos="3660840"/>
                <a:tab algn="l" pos="4118040"/>
                <a:tab algn="l" pos="4575240"/>
                <a:tab algn="l" pos="5032440"/>
                <a:tab algn="l" pos="5489640"/>
                <a:tab algn="l" pos="5946840"/>
                <a:tab algn="l" pos="6404040"/>
                <a:tab algn="l" pos="6861240"/>
                <a:tab algn="l" pos="7318440"/>
                <a:tab algn="l" pos="7775640"/>
                <a:tab algn="l" pos="8232840"/>
                <a:tab algn="l" pos="8690040"/>
                <a:tab algn="l" pos="91472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60440"/>
                <a:tab algn="l" pos="917640"/>
                <a:tab algn="l" pos="1374840"/>
                <a:tab algn="l" pos="1832040"/>
                <a:tab algn="l" pos="2289240"/>
                <a:tab algn="l" pos="2746440"/>
                <a:tab algn="l" pos="3203640"/>
                <a:tab algn="l" pos="3660840"/>
                <a:tab algn="l" pos="4118040"/>
                <a:tab algn="l" pos="4575240"/>
                <a:tab algn="l" pos="5032440"/>
                <a:tab algn="l" pos="5489640"/>
                <a:tab algn="l" pos="5946840"/>
                <a:tab algn="l" pos="6404040"/>
                <a:tab algn="l" pos="6861240"/>
                <a:tab algn="l" pos="7318440"/>
                <a:tab algn="l" pos="7775640"/>
                <a:tab algn="l" pos="8232840"/>
                <a:tab algn="l" pos="8690040"/>
                <a:tab algn="l" pos="91472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914400" y="302760"/>
            <a:ext cx="7767720" cy="303480"/>
            <a:chOff x="914400" y="302760"/>
            <a:chExt cx="7767720" cy="303480"/>
          </a:xfrm>
        </p:grpSpPr>
        <p:sp>
          <p:nvSpPr>
            <p:cNvPr id="174" name=""/>
            <p:cNvSpPr/>
            <p:nvPr/>
          </p:nvSpPr>
          <p:spPr>
            <a:xfrm>
              <a:off x="914400" y="603360"/>
              <a:ext cx="776592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V="1">
              <a:off x="8680320" y="302760"/>
              <a:ext cx="1800" cy="3034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Nimeruumid: kehtivuspiirkond ja default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611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Nimedefinitsiooni kehtivuspiirkond tekstis on piiratud: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ingis tagis xmlns abil defineeritud keelenime lühend kehtib nii selle tagi enda jaoks (vt eelmist näidet) kui kõigi tema sees (kuitahes sügaval) olevate tagide ja atribuutide jaoks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ugavuse jaoks näeb standard ette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vaikimisi nimeruumi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defineerimise võimaluse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ilma lühendita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&lt;table xmlns=”http://www.ttu.ee/it/xkeel”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name&gt;African Coffee Table&lt;/name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width&gt;80&lt;/width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length&gt;120&lt;/length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/table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ispeale tagil ja kõigil sisemistel tagidel on automaatselt see nimeruum, kui neile pole eraldi antud mõnda teist nimeruumi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tribuutidele peab nimeruumi aga siiski andma kooloniga!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838080" y="379080"/>
            <a:ext cx="7759800" cy="297000"/>
            <a:chOff x="838080" y="379080"/>
            <a:chExt cx="7759800" cy="297000"/>
          </a:xfrm>
        </p:grpSpPr>
        <p:sp>
          <p:nvSpPr>
            <p:cNvPr id="179" name=""/>
            <p:cNvSpPr/>
            <p:nvPr/>
          </p:nvSpPr>
          <p:spPr>
            <a:xfrm>
              <a:off x="838080" y="666720"/>
              <a:ext cx="77583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8596440" y="379080"/>
              <a:ext cx="1440" cy="2970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Nimeruumid: URI, URL ja URN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2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URI (Uniform Resource Identifier) on globaalne, unikaalne nimi, mis võib olla kas URL või URN (mõlemad on URI-d)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URL (uniform resource locator) on kujul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yhendusprotokoll:masin/asukohtmasinas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näiteks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 u="sng">
                <a:solidFill>
                  <a:srgbClr val="ccccff"/>
                </a:solidFill>
                <a:uFillTx/>
                <a:latin typeface="Bitstream Vera Sans"/>
                <a:hlinkClick r:id="rId1"/>
              </a:rPr>
              <a:t>http://www.ttu.ee/it/index.html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 u="sng">
                <a:solidFill>
                  <a:srgbClr val="ccccff"/>
                </a:solidFill>
                <a:uFillTx/>
                <a:latin typeface="Bitstream Vera Sans"/>
                <a:hlinkClick r:id="rId2"/>
              </a:rPr>
              <a:t>ftp://ftp.is.co.za/rfc/rfc1808.txt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80"/>
                </a:solidFill>
                <a:latin typeface="Bitstream Vera Sans"/>
              </a:rPr>
              <a:t>mailto:tammet@staff.ttu.ee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URN (uniform resource name) on unikaalne nimi kujul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urn:nimi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näiteks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urn:ttu.ee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838080" y="379080"/>
            <a:ext cx="7759800" cy="297000"/>
            <a:chOff x="838080" y="379080"/>
            <a:chExt cx="7759800" cy="297000"/>
          </a:xfrm>
        </p:grpSpPr>
        <p:sp>
          <p:nvSpPr>
            <p:cNvPr id="184" name=""/>
            <p:cNvSpPr/>
            <p:nvPr/>
          </p:nvSpPr>
          <p:spPr>
            <a:xfrm>
              <a:off x="838080" y="666720"/>
              <a:ext cx="77583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V="1">
              <a:off x="8596440" y="379080"/>
              <a:ext cx="1440" cy="2970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DTD ja XML schema: mis ja miks 1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29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21840" indent="-32184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XML süntaks lubab kasutada mistahes tage ja atribuute, igalpool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2184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21840" indent="-32184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Mõnes XML süntaksiga keeles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, näiteks: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09920" indent="-2664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hulgimüüja poolt antav hinnainfo,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09920" indent="-2664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XML süntaksiga HTML (xhtml),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09920" indent="-2664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õne programmi konfifail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09920" indent="-2664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jne jne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2184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on lubatud ainult teatud hulk tage ja atribuute, ning ainult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2184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eatud kohtades: st, keele süntaks on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alamhulk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XML-st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2184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21840" indent="-32184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ellisel juhul on tihti kasulik kirjutada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keele grammatika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, st reeglid süntaksile, esmajoones: mis tagid/atribuudid kus lubatud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2184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21840" indent="-32184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DTD ja XML schema on kaks erinevat viisi taolise grammatika kirjapanekuks XML süntaksiga keeltele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2184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2184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838080" y="379080"/>
            <a:ext cx="7759800" cy="297000"/>
            <a:chOff x="838080" y="379080"/>
            <a:chExt cx="7759800" cy="297000"/>
          </a:xfrm>
        </p:grpSpPr>
        <p:sp>
          <p:nvSpPr>
            <p:cNvPr id="189" name=""/>
            <p:cNvSpPr/>
            <p:nvPr/>
          </p:nvSpPr>
          <p:spPr>
            <a:xfrm>
              <a:off x="838080" y="666720"/>
              <a:ext cx="77583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flipV="1">
              <a:off x="8596440" y="379080"/>
              <a:ext cx="1440" cy="2970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XML süntaksiga keeli on palju, näitek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838080" y="990360"/>
            <a:ext cx="7848720" cy="526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lnSpc>
                <a:spcPct val="78000"/>
              </a:lnSpc>
              <a:spcBef>
                <a:spcPts val="499"/>
              </a:spcBef>
              <a:spcAft>
                <a:spcPts val="499"/>
              </a:spcAft>
              <a:buClr>
                <a:srgbClr val="800000"/>
              </a:buClr>
              <a:buFont typeface="Wingdings" charset="2"/>
              <a:buChar char=""/>
              <a:tabLst>
                <a:tab algn="l" pos="122400"/>
                <a:tab algn="l" pos="579600"/>
                <a:tab algn="l" pos="1036800"/>
                <a:tab algn="l" pos="1494000"/>
                <a:tab algn="l" pos="1951200"/>
                <a:tab algn="l" pos="2408400"/>
                <a:tab algn="l" pos="2865600"/>
                <a:tab algn="l" pos="3322800"/>
                <a:tab algn="l" pos="3780000"/>
                <a:tab algn="l" pos="4237200"/>
                <a:tab algn="l" pos="4694400"/>
                <a:tab algn="l" pos="5151600"/>
                <a:tab algn="l" pos="5608800"/>
                <a:tab algn="l" pos="6066000"/>
                <a:tab algn="l" pos="6523200"/>
                <a:tab algn="l" pos="6980400"/>
                <a:tab algn="l" pos="7437600"/>
                <a:tab algn="l" pos="7894800"/>
                <a:tab algn="l" pos="8352000"/>
                <a:tab algn="l" pos="88092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CommerceNet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431640" indent="-215640">
              <a:lnSpc>
                <a:spcPct val="49000"/>
              </a:lnSpc>
              <a:spcBef>
                <a:spcPts val="24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122400"/>
                <a:tab algn="l" pos="579600"/>
                <a:tab algn="l" pos="1036800"/>
                <a:tab algn="l" pos="1494000"/>
                <a:tab algn="l" pos="1951200"/>
                <a:tab algn="l" pos="2408400"/>
                <a:tab algn="l" pos="2865600"/>
                <a:tab algn="l" pos="3322800"/>
                <a:tab algn="l" pos="3780000"/>
                <a:tab algn="l" pos="4237200"/>
                <a:tab algn="l" pos="4694400"/>
                <a:tab algn="l" pos="5151600"/>
                <a:tab algn="l" pos="5608800"/>
                <a:tab algn="l" pos="6066000"/>
                <a:tab algn="l" pos="6523200"/>
                <a:tab algn="l" pos="6980400"/>
                <a:tab algn="l" pos="7437600"/>
                <a:tab algn="l" pos="7894800"/>
                <a:tab algn="l" pos="8352000"/>
                <a:tab algn="l" pos="88092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 u="sng">
                <a:solidFill>
                  <a:srgbClr val="ccccff"/>
                </a:solidFill>
                <a:uFillTx/>
                <a:latin typeface="Bitstream Vera Sans"/>
                <a:hlinkClick r:id="rId1"/>
              </a:rPr>
              <a:t>eCo</a:t>
            </a:r>
            <a:r>
              <a:rPr b="0" lang="en-GB" sz="1400" spc="-1" strike="noStrike" u="sng">
                <a:solidFill>
                  <a:srgbClr val="ccccff"/>
                </a:solidFill>
                <a:uFillTx/>
                <a:latin typeface="Bitstream Vera Sans"/>
                <a:hlinkClick r:id="rId2"/>
              </a:rPr>
              <a:t> Framework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1000" spc="-1" strike="noStrike">
                <a:solidFill>
                  <a:srgbClr val="000000"/>
                </a:solidFill>
                <a:latin typeface="Bitstream Vera Sans"/>
              </a:rPr>
              <a:t>XML specs. to support interoperability among e-businesses</a:t>
            </a:r>
            <a:endParaRPr b="0" lang="en-US" sz="1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431640" indent="-215640">
              <a:lnSpc>
                <a:spcPct val="68000"/>
              </a:lnSpc>
              <a:spcBef>
                <a:spcPts val="34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122400"/>
                <a:tab algn="l" pos="579600"/>
                <a:tab algn="l" pos="1036800"/>
                <a:tab algn="l" pos="1494000"/>
                <a:tab algn="l" pos="1951200"/>
                <a:tab algn="l" pos="2408400"/>
                <a:tab algn="l" pos="2865600"/>
                <a:tab algn="l" pos="3322800"/>
                <a:tab algn="l" pos="3780000"/>
                <a:tab algn="l" pos="4237200"/>
                <a:tab algn="l" pos="4694400"/>
                <a:tab algn="l" pos="5151600"/>
                <a:tab algn="l" pos="5608800"/>
                <a:tab algn="l" pos="6066000"/>
                <a:tab algn="l" pos="6523200"/>
                <a:tab algn="l" pos="6980400"/>
                <a:tab algn="l" pos="7437600"/>
                <a:tab algn="l" pos="7894800"/>
                <a:tab algn="l" pos="8352000"/>
                <a:tab algn="l" pos="88092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 u="sng">
                <a:solidFill>
                  <a:srgbClr val="ccccff"/>
                </a:solidFill>
                <a:uFillTx/>
                <a:latin typeface="Bitstream Vera Sans"/>
                <a:hlinkClick r:id="rId3"/>
              </a:rPr>
              <a:t>Commerce One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1000" spc="-1" strike="noStrike">
                <a:solidFill>
                  <a:srgbClr val="000000"/>
                </a:solidFill>
                <a:latin typeface="Bitstream Vera Sans"/>
              </a:rPr>
              <a:t>Common Business Library (CBL): set of business components, docs. In DTD, XDR, SOX</a:t>
            </a:r>
            <a:r>
              <a:rPr b="0" lang="en-GB" sz="1400" spc="-1" strike="noStrike" u="sng">
                <a:solidFill>
                  <a:srgbClr val="ccccff"/>
                </a:solidFill>
                <a:uFillTx/>
                <a:latin typeface="Bitstream Vera Sans"/>
                <a:hlinkClick r:id="rId4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431640" indent="-215640">
              <a:lnSpc>
                <a:spcPct val="68000"/>
              </a:lnSpc>
              <a:spcBef>
                <a:spcPts val="24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122400"/>
                <a:tab algn="l" pos="579600"/>
                <a:tab algn="l" pos="1036800"/>
                <a:tab algn="l" pos="1494000"/>
                <a:tab algn="l" pos="1951200"/>
                <a:tab algn="l" pos="2408400"/>
                <a:tab algn="l" pos="2865600"/>
                <a:tab algn="l" pos="3322800"/>
                <a:tab algn="l" pos="3780000"/>
                <a:tab algn="l" pos="4237200"/>
                <a:tab algn="l" pos="4694400"/>
                <a:tab algn="l" pos="5151600"/>
                <a:tab algn="l" pos="5608800"/>
                <a:tab algn="l" pos="6066000"/>
                <a:tab algn="l" pos="6523200"/>
                <a:tab algn="l" pos="6980400"/>
                <a:tab algn="l" pos="7437600"/>
                <a:tab algn="l" pos="7894800"/>
                <a:tab algn="l" pos="8352000"/>
                <a:tab algn="l" pos="88092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 u="sng">
                <a:solidFill>
                  <a:srgbClr val="ccccff"/>
                </a:solidFill>
                <a:uFillTx/>
                <a:latin typeface="Bitstream Vera Sans"/>
                <a:hlinkClick r:id="rId5"/>
              </a:rPr>
              <a:t>BizTalk</a:t>
            </a:r>
            <a:r>
              <a:rPr b="0" lang="en-GB" sz="1800" spc="-1" strike="noStrike">
                <a:solidFill>
                  <a:srgbClr val="000080"/>
                </a:solidFill>
                <a:latin typeface="Bitstream Vera Sans"/>
              </a:rPr>
              <a:t> </a:t>
            </a:r>
            <a:r>
              <a:rPr b="0" lang="en-GB" sz="1000" spc="-1" strike="noStrike">
                <a:solidFill>
                  <a:srgbClr val="000000"/>
                </a:solidFill>
                <a:latin typeface="Bitstream Vera Sans"/>
              </a:rPr>
              <a:t>Microsoft spec. based on XML schemas</a:t>
            </a:r>
            <a:endParaRPr b="0" lang="en-US" sz="1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431640" indent="-215640">
              <a:lnSpc>
                <a:spcPct val="68000"/>
              </a:lnSpc>
              <a:spcBef>
                <a:spcPts val="24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122400"/>
                <a:tab algn="l" pos="579600"/>
                <a:tab algn="l" pos="1036800"/>
                <a:tab algn="l" pos="1494000"/>
                <a:tab algn="l" pos="1951200"/>
                <a:tab algn="l" pos="2408400"/>
                <a:tab algn="l" pos="2865600"/>
                <a:tab algn="l" pos="3322800"/>
                <a:tab algn="l" pos="3780000"/>
                <a:tab algn="l" pos="4237200"/>
                <a:tab algn="l" pos="4694400"/>
                <a:tab algn="l" pos="5151600"/>
                <a:tab algn="l" pos="5608800"/>
                <a:tab algn="l" pos="6066000"/>
                <a:tab algn="l" pos="6523200"/>
                <a:tab algn="l" pos="6980400"/>
                <a:tab algn="l" pos="7437600"/>
                <a:tab algn="l" pos="7894800"/>
                <a:tab algn="l" pos="8352000"/>
                <a:tab algn="l" pos="88092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 u="sng">
                <a:solidFill>
                  <a:srgbClr val="ccccff"/>
                </a:solidFill>
                <a:uFillTx/>
                <a:latin typeface="Bitstream Vera Sans"/>
                <a:hlinkClick r:id="rId6"/>
              </a:rPr>
              <a:t>cXML</a:t>
            </a:r>
            <a:r>
              <a:rPr b="0" lang="en-GB" sz="1800" spc="-1" strike="noStrike">
                <a:solidFill>
                  <a:srgbClr val="000080"/>
                </a:solidFill>
                <a:latin typeface="Bitstream Vera Sans"/>
              </a:rPr>
              <a:t> </a:t>
            </a:r>
            <a:r>
              <a:rPr b="0" lang="en-GB" sz="1000" spc="-1" strike="noStrike">
                <a:solidFill>
                  <a:srgbClr val="000000"/>
                </a:solidFill>
                <a:latin typeface="Bitstream Vera Sans"/>
              </a:rPr>
              <a:t>(Commerce XML) -- tag-sets for e-procurement into BizTalk</a:t>
            </a:r>
            <a:endParaRPr b="0" lang="en-US" sz="1000" spc="-1" strike="noStrike">
              <a:solidFill>
                <a:srgbClr val="000000"/>
              </a:solidFill>
              <a:latin typeface="Bitstream Vera Sans"/>
            </a:endParaRPr>
          </a:p>
          <a:p>
            <a:pPr>
              <a:lnSpc>
                <a:spcPct val="88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"/>
              <a:tabLst>
                <a:tab algn="l" pos="122400"/>
                <a:tab algn="l" pos="579600"/>
                <a:tab algn="l" pos="1036800"/>
                <a:tab algn="l" pos="1494000"/>
                <a:tab algn="l" pos="1951200"/>
                <a:tab algn="l" pos="2408400"/>
                <a:tab algn="l" pos="2865600"/>
                <a:tab algn="l" pos="3322800"/>
                <a:tab algn="l" pos="3780000"/>
                <a:tab algn="l" pos="4237200"/>
                <a:tab algn="l" pos="4694400"/>
                <a:tab algn="l" pos="5151600"/>
                <a:tab algn="l" pos="5608800"/>
                <a:tab algn="l" pos="6066000"/>
                <a:tab algn="l" pos="6523200"/>
                <a:tab algn="l" pos="6980400"/>
                <a:tab algn="l" pos="7437600"/>
                <a:tab algn="l" pos="7894800"/>
                <a:tab algn="l" pos="8352000"/>
                <a:tab algn="l" pos="88092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Electronic Data Interchange (EDI)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431640" indent="-215640">
              <a:lnSpc>
                <a:spcPct val="68000"/>
              </a:lnSpc>
              <a:spcBef>
                <a:spcPts val="24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122400"/>
                <a:tab algn="l" pos="579600"/>
                <a:tab algn="l" pos="1036800"/>
                <a:tab algn="l" pos="1494000"/>
                <a:tab algn="l" pos="1951200"/>
                <a:tab algn="l" pos="2408400"/>
                <a:tab algn="l" pos="2865600"/>
                <a:tab algn="l" pos="3322800"/>
                <a:tab algn="l" pos="3780000"/>
                <a:tab algn="l" pos="4237200"/>
                <a:tab algn="l" pos="4694400"/>
                <a:tab algn="l" pos="5151600"/>
                <a:tab algn="l" pos="5608800"/>
                <a:tab algn="l" pos="6066000"/>
                <a:tab algn="l" pos="6523200"/>
                <a:tab algn="l" pos="6980400"/>
                <a:tab algn="l" pos="7437600"/>
                <a:tab algn="l" pos="7894800"/>
                <a:tab algn="l" pos="8352000"/>
                <a:tab algn="l" pos="88092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 u="sng">
                <a:solidFill>
                  <a:srgbClr val="ccccff"/>
                </a:solidFill>
                <a:uFillTx/>
                <a:latin typeface="Bitstream Vera Sans"/>
                <a:hlinkClick r:id="rId7"/>
              </a:rPr>
              <a:t>RosettaNet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1000" spc="-1" strike="noStrike">
                <a:solidFill>
                  <a:srgbClr val="000000"/>
                </a:solidFill>
                <a:latin typeface="Bitstream Vera Sans"/>
              </a:rPr>
              <a:t>Common format for online ordering</a:t>
            </a:r>
            <a:endParaRPr b="0" lang="en-US" sz="1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431640" indent="-215640">
              <a:lnSpc>
                <a:spcPct val="68000"/>
              </a:lnSpc>
              <a:spcBef>
                <a:spcPts val="24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122400"/>
                <a:tab algn="l" pos="579600"/>
                <a:tab algn="l" pos="1036800"/>
                <a:tab algn="l" pos="1494000"/>
                <a:tab algn="l" pos="1951200"/>
                <a:tab algn="l" pos="2408400"/>
                <a:tab algn="l" pos="2865600"/>
                <a:tab algn="l" pos="3322800"/>
                <a:tab algn="l" pos="3780000"/>
                <a:tab algn="l" pos="4237200"/>
                <a:tab algn="l" pos="4694400"/>
                <a:tab algn="l" pos="5151600"/>
                <a:tab algn="l" pos="5608800"/>
                <a:tab algn="l" pos="6066000"/>
                <a:tab algn="l" pos="6523200"/>
                <a:tab algn="l" pos="6980400"/>
                <a:tab algn="l" pos="7437600"/>
                <a:tab algn="l" pos="7894800"/>
                <a:tab algn="l" pos="8352000"/>
                <a:tab algn="l" pos="88092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 u="sng">
                <a:solidFill>
                  <a:srgbClr val="ccccff"/>
                </a:solidFill>
                <a:uFillTx/>
                <a:latin typeface="Bitstream Vera Sans"/>
                <a:hlinkClick r:id="rId8"/>
              </a:rPr>
              <a:t>FpML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1000" spc="-1" strike="noStrike">
                <a:solidFill>
                  <a:srgbClr val="000000"/>
                </a:solidFill>
                <a:latin typeface="Bitstream Vera Sans"/>
              </a:rPr>
              <a:t>(Financial products Markup Language): sharing of financial data (interest rate &amp; foreign exchange products)</a:t>
            </a:r>
            <a:endParaRPr b="0" lang="en-US" sz="1000" spc="-1" strike="noStrike">
              <a:solidFill>
                <a:srgbClr val="000000"/>
              </a:solidFill>
              <a:latin typeface="Bitstream Vera Sans"/>
            </a:endParaRPr>
          </a:p>
          <a:p>
            <a:pPr>
              <a:lnSpc>
                <a:spcPct val="88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"/>
              <a:tabLst>
                <a:tab algn="l" pos="122400"/>
                <a:tab algn="l" pos="579600"/>
                <a:tab algn="l" pos="1036800"/>
                <a:tab algn="l" pos="1494000"/>
                <a:tab algn="l" pos="1951200"/>
                <a:tab algn="l" pos="2408400"/>
                <a:tab algn="l" pos="2865600"/>
                <a:tab algn="l" pos="3322800"/>
                <a:tab algn="l" pos="3780000"/>
                <a:tab algn="l" pos="4237200"/>
                <a:tab algn="l" pos="4694400"/>
                <a:tab algn="l" pos="5151600"/>
                <a:tab algn="l" pos="5608800"/>
                <a:tab algn="l" pos="6066000"/>
                <a:tab algn="l" pos="6523200"/>
                <a:tab algn="l" pos="6980400"/>
                <a:tab algn="l" pos="7437600"/>
                <a:tab algn="l" pos="7894800"/>
                <a:tab algn="l" pos="8352000"/>
                <a:tab algn="l" pos="88092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Open Buying on the Internet (OBI)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431640" indent="-215640">
              <a:lnSpc>
                <a:spcPct val="68000"/>
              </a:lnSpc>
              <a:spcBef>
                <a:spcPts val="24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122400"/>
                <a:tab algn="l" pos="579600"/>
                <a:tab algn="l" pos="1036800"/>
                <a:tab algn="l" pos="1494000"/>
                <a:tab algn="l" pos="1951200"/>
                <a:tab algn="l" pos="2408400"/>
                <a:tab algn="l" pos="2865600"/>
                <a:tab algn="l" pos="3322800"/>
                <a:tab algn="l" pos="3780000"/>
                <a:tab algn="l" pos="4237200"/>
                <a:tab algn="l" pos="4694400"/>
                <a:tab algn="l" pos="5151600"/>
                <a:tab algn="l" pos="5608800"/>
                <a:tab algn="l" pos="6066000"/>
                <a:tab algn="l" pos="6523200"/>
                <a:tab algn="l" pos="6980400"/>
                <a:tab algn="l" pos="7437600"/>
                <a:tab algn="l" pos="7894800"/>
                <a:tab algn="l" pos="8352000"/>
                <a:tab algn="l" pos="88092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 u="sng">
                <a:solidFill>
                  <a:srgbClr val="ccccff"/>
                </a:solidFill>
                <a:uFillTx/>
                <a:latin typeface="Bitstream Vera Sans"/>
                <a:hlinkClick r:id="rId9"/>
              </a:rPr>
              <a:t>OBI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1000" spc="-1" strike="noStrike">
                <a:solidFill>
                  <a:srgbClr val="000000"/>
                </a:solidFill>
                <a:latin typeface="Bitstream Vera Sans"/>
              </a:rPr>
              <a:t>high volume b2b purchasing transactions over the Internet (Office Depot, Lockheed, barnesandnoble, AX...</a:t>
            </a:r>
            <a:endParaRPr b="0" lang="en-US" sz="1000" spc="-1" strike="noStrike">
              <a:solidFill>
                <a:srgbClr val="000000"/>
              </a:solidFill>
              <a:latin typeface="Bitstream Vera Sans"/>
            </a:endParaRPr>
          </a:p>
          <a:p>
            <a:pPr>
              <a:lnSpc>
                <a:spcPct val="88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"/>
              <a:tabLst>
                <a:tab algn="l" pos="122400"/>
                <a:tab algn="l" pos="579600"/>
                <a:tab algn="l" pos="1036800"/>
                <a:tab algn="l" pos="1494000"/>
                <a:tab algn="l" pos="1951200"/>
                <a:tab algn="l" pos="2408400"/>
                <a:tab algn="l" pos="2865600"/>
                <a:tab algn="l" pos="3322800"/>
                <a:tab algn="l" pos="3780000"/>
                <a:tab algn="l" pos="4237200"/>
                <a:tab algn="l" pos="4694400"/>
                <a:tab algn="l" pos="5151600"/>
                <a:tab algn="l" pos="5608800"/>
                <a:tab algn="l" pos="6066000"/>
                <a:tab algn="l" pos="6523200"/>
                <a:tab algn="l" pos="6980400"/>
                <a:tab algn="l" pos="7437600"/>
                <a:tab algn="l" pos="7894800"/>
                <a:tab algn="l" pos="8352000"/>
                <a:tab algn="l" pos="88092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E-commerce and XML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431640" indent="-215640">
              <a:lnSpc>
                <a:spcPct val="88000"/>
              </a:lnSpc>
              <a:spcBef>
                <a:spcPts val="24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122400"/>
                <a:tab algn="l" pos="579600"/>
                <a:tab algn="l" pos="1036800"/>
                <a:tab algn="l" pos="1494000"/>
                <a:tab algn="l" pos="1951200"/>
                <a:tab algn="l" pos="2408400"/>
                <a:tab algn="l" pos="2865600"/>
                <a:tab algn="l" pos="3322800"/>
                <a:tab algn="l" pos="3780000"/>
                <a:tab algn="l" pos="4237200"/>
                <a:tab algn="l" pos="4694400"/>
                <a:tab algn="l" pos="5151600"/>
                <a:tab algn="l" pos="5608800"/>
                <a:tab algn="l" pos="6066000"/>
                <a:tab algn="l" pos="6523200"/>
                <a:tab algn="l" pos="6980400"/>
                <a:tab algn="l" pos="7437600"/>
                <a:tab algn="l" pos="7894800"/>
                <a:tab algn="l" pos="8352000"/>
                <a:tab algn="l" pos="88092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 u="sng">
                <a:solidFill>
                  <a:srgbClr val="ccccff"/>
                </a:solidFill>
                <a:uFillTx/>
                <a:latin typeface="Bitstream Vera Sans"/>
                <a:hlinkClick r:id="rId10"/>
              </a:rPr>
              <a:t>VISA Invoices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1000" spc="-1" strike="noStrike">
                <a:solidFill>
                  <a:srgbClr val="000000"/>
                </a:solidFill>
                <a:latin typeface="Bitstream Vera Sans"/>
              </a:rPr>
              <a:t>The Visa Extensible Markup Language (XML) Invoice Specification provides a comprehensive list of data elements contained in most invoices, including: </a:t>
            </a:r>
            <a:r>
              <a:rPr b="1" lang="en-GB" sz="1000" spc="-1" strike="noStrike">
                <a:solidFill>
                  <a:srgbClr val="000000"/>
                </a:solidFill>
                <a:latin typeface="Bitstream Vera Sans"/>
              </a:rPr>
              <a:t>Buyer/Supplier, Shipping, Tax, Payment, Currency, Discount, and Line Item Detail. </a:t>
            </a:r>
            <a:endParaRPr b="0" lang="en-US" sz="1000" spc="-1" strike="noStrike">
              <a:solidFill>
                <a:srgbClr val="000000"/>
              </a:solidFill>
              <a:latin typeface="Bitstream Vera Sans"/>
            </a:endParaRPr>
          </a:p>
          <a:p>
            <a:pPr>
              <a:lnSpc>
                <a:spcPct val="88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"/>
              <a:tabLst>
                <a:tab algn="l" pos="122400"/>
                <a:tab algn="l" pos="579600"/>
                <a:tab algn="l" pos="1036800"/>
                <a:tab algn="l" pos="1494000"/>
                <a:tab algn="l" pos="1951200"/>
                <a:tab algn="l" pos="2408400"/>
                <a:tab algn="l" pos="2865600"/>
                <a:tab algn="l" pos="3322800"/>
                <a:tab algn="l" pos="3780000"/>
                <a:tab algn="l" pos="4237200"/>
                <a:tab algn="l" pos="4694400"/>
                <a:tab algn="l" pos="5151600"/>
                <a:tab algn="l" pos="5608800"/>
                <a:tab algn="l" pos="6066000"/>
                <a:tab algn="l" pos="6523200"/>
                <a:tab algn="l" pos="6980400"/>
                <a:tab algn="l" pos="7437600"/>
                <a:tab algn="l" pos="7894800"/>
                <a:tab algn="l" pos="8352000"/>
                <a:tab algn="l" pos="88092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B2B Integration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431640" indent="-215640">
              <a:lnSpc>
                <a:spcPct val="68000"/>
              </a:lnSpc>
              <a:spcBef>
                <a:spcPts val="24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122400"/>
                <a:tab algn="l" pos="579600"/>
                <a:tab algn="l" pos="1036800"/>
                <a:tab algn="l" pos="1494000"/>
                <a:tab algn="l" pos="1951200"/>
                <a:tab algn="l" pos="2408400"/>
                <a:tab algn="l" pos="2865600"/>
                <a:tab algn="l" pos="3322800"/>
                <a:tab algn="l" pos="3780000"/>
                <a:tab algn="l" pos="4237200"/>
                <a:tab algn="l" pos="4694400"/>
                <a:tab algn="l" pos="5151600"/>
                <a:tab algn="l" pos="5608800"/>
                <a:tab algn="l" pos="6066000"/>
                <a:tab algn="l" pos="6523200"/>
                <a:tab algn="l" pos="6980400"/>
                <a:tab algn="l" pos="7437600"/>
                <a:tab algn="l" pos="7894800"/>
                <a:tab algn="l" pos="8352000"/>
                <a:tab algn="l" pos="88092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 u="sng">
                <a:solidFill>
                  <a:srgbClr val="ccccff"/>
                </a:solidFill>
                <a:uFillTx/>
                <a:latin typeface="Bitstream Vera Sans"/>
                <a:hlinkClick r:id="rId11"/>
              </a:rPr>
              <a:t>code360</a:t>
            </a:r>
            <a:r>
              <a:rPr b="0" lang="en-GB" sz="1800" spc="-1" strike="noStrike">
                <a:solidFill>
                  <a:srgbClr val="000080"/>
                </a:solidFill>
                <a:latin typeface="Bitstream Vera Sans"/>
              </a:rPr>
              <a:t> </a:t>
            </a:r>
            <a:r>
              <a:rPr b="0" lang="en-GB" sz="1000" spc="-1" strike="noStrike">
                <a:solidFill>
                  <a:srgbClr val="000000"/>
                </a:solidFill>
                <a:latin typeface="Bitstream Vera Sans"/>
              </a:rPr>
              <a:t>XML-Broker is middleware software that manages XML based transactions</a:t>
            </a:r>
            <a:endParaRPr b="0" lang="en-US" sz="1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431640" indent="-215640">
              <a:lnSpc>
                <a:spcPct val="107000"/>
              </a:lnSpc>
              <a:spcBef>
                <a:spcPts val="24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122400"/>
                <a:tab algn="l" pos="579600"/>
                <a:tab algn="l" pos="1036800"/>
                <a:tab algn="l" pos="1494000"/>
                <a:tab algn="l" pos="1951200"/>
                <a:tab algn="l" pos="2408400"/>
                <a:tab algn="l" pos="2865600"/>
                <a:tab algn="l" pos="3322800"/>
                <a:tab algn="l" pos="3780000"/>
                <a:tab algn="l" pos="4237200"/>
                <a:tab algn="l" pos="4694400"/>
                <a:tab algn="l" pos="5151600"/>
                <a:tab algn="l" pos="5608800"/>
                <a:tab algn="l" pos="6066000"/>
                <a:tab algn="l" pos="6523200"/>
                <a:tab algn="l" pos="6980400"/>
                <a:tab algn="l" pos="7437600"/>
                <a:tab algn="l" pos="7894800"/>
                <a:tab algn="l" pos="8352000"/>
                <a:tab algn="l" pos="88092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 u="sng">
                <a:solidFill>
                  <a:srgbClr val="ccccff"/>
                </a:solidFill>
                <a:uFillTx/>
                <a:latin typeface="Bitstream Vera Sans"/>
                <a:hlinkClick r:id="rId12"/>
              </a:rPr>
              <a:t>Bluestone</a:t>
            </a:r>
            <a:r>
              <a:rPr b="0" lang="en-GB" sz="1400" spc="-1" strike="noStrike" u="sng">
                <a:solidFill>
                  <a:srgbClr val="ccccff"/>
                </a:solidFill>
                <a:uFillTx/>
                <a:latin typeface="Bitstream Vera Sans"/>
                <a:hlinkClick r:id="rId13"/>
              </a:rPr>
              <a:t> XML Suite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1000" spc="-1" strike="noStrike">
                <a:solidFill>
                  <a:srgbClr val="000000"/>
                </a:solidFill>
                <a:latin typeface="Bitstream Vera Sans"/>
              </a:rPr>
              <a:t>Enables to develop and deploy e-commerce, electronic data interchange, application integration and supply chain management applications. Bluestone XML Suite products include: XML-Server, Visual-XML, XML-Contact and XwingML.</a:t>
            </a:r>
            <a:endParaRPr b="0" lang="en-US" sz="1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431640" indent="-215640">
              <a:lnSpc>
                <a:spcPct val="68000"/>
              </a:lnSpc>
              <a:spcBef>
                <a:spcPts val="24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122400"/>
                <a:tab algn="l" pos="579600"/>
                <a:tab algn="l" pos="1036800"/>
                <a:tab algn="l" pos="1494000"/>
                <a:tab algn="l" pos="1951200"/>
                <a:tab algn="l" pos="2408400"/>
                <a:tab algn="l" pos="2865600"/>
                <a:tab algn="l" pos="3322800"/>
                <a:tab algn="l" pos="3780000"/>
                <a:tab algn="l" pos="4237200"/>
                <a:tab algn="l" pos="4694400"/>
                <a:tab algn="l" pos="5151600"/>
                <a:tab algn="l" pos="5608800"/>
                <a:tab algn="l" pos="6066000"/>
                <a:tab algn="l" pos="6523200"/>
                <a:tab algn="l" pos="6980400"/>
                <a:tab algn="l" pos="7437600"/>
                <a:tab algn="l" pos="7894800"/>
                <a:tab algn="l" pos="8352000"/>
                <a:tab algn="l" pos="88092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 u="sng">
                <a:solidFill>
                  <a:srgbClr val="ccccff"/>
                </a:solidFill>
                <a:uFillTx/>
                <a:latin typeface="Bitstream Vera Sans"/>
                <a:hlinkClick r:id="rId14"/>
              </a:rPr>
              <a:t>webMethods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1000" spc="-1" strike="noStrike">
                <a:solidFill>
                  <a:srgbClr val="000000"/>
                </a:solidFill>
                <a:latin typeface="Bitstream Vera Sans"/>
              </a:rPr>
              <a:t>Provides companies with integrated direct links to buyers and suppliers</a:t>
            </a:r>
            <a:endParaRPr b="0" lang="en-US" sz="10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122400"/>
                <a:tab algn="l" pos="579600"/>
                <a:tab algn="l" pos="1036800"/>
                <a:tab algn="l" pos="1494000"/>
                <a:tab algn="l" pos="1951200"/>
                <a:tab algn="l" pos="2408400"/>
                <a:tab algn="l" pos="2865600"/>
                <a:tab algn="l" pos="3322800"/>
                <a:tab algn="l" pos="3780000"/>
                <a:tab algn="l" pos="4237200"/>
                <a:tab algn="l" pos="4694400"/>
                <a:tab algn="l" pos="5151600"/>
                <a:tab algn="l" pos="5608800"/>
                <a:tab algn="l" pos="6066000"/>
                <a:tab algn="l" pos="6523200"/>
                <a:tab algn="l" pos="6980400"/>
                <a:tab algn="l" pos="7437600"/>
                <a:tab algn="l" pos="7894800"/>
                <a:tab algn="l" pos="8352000"/>
                <a:tab algn="l" pos="88092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122400"/>
                <a:tab algn="l" pos="579600"/>
                <a:tab algn="l" pos="1036800"/>
                <a:tab algn="l" pos="1494000"/>
                <a:tab algn="l" pos="1951200"/>
                <a:tab algn="l" pos="2408400"/>
                <a:tab algn="l" pos="2865600"/>
                <a:tab algn="l" pos="3322800"/>
                <a:tab algn="l" pos="3780000"/>
                <a:tab algn="l" pos="4237200"/>
                <a:tab algn="l" pos="4694400"/>
                <a:tab algn="l" pos="5151600"/>
                <a:tab algn="l" pos="5608800"/>
                <a:tab algn="l" pos="6066000"/>
                <a:tab algn="l" pos="6523200"/>
                <a:tab algn="l" pos="6980400"/>
                <a:tab algn="l" pos="7437600"/>
                <a:tab algn="l" pos="7894800"/>
                <a:tab algn="l" pos="8352000"/>
                <a:tab algn="l" pos="88092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838080" y="379080"/>
            <a:ext cx="7759800" cy="297000"/>
            <a:chOff x="838080" y="379080"/>
            <a:chExt cx="7759800" cy="297000"/>
          </a:xfrm>
        </p:grpSpPr>
        <p:sp>
          <p:nvSpPr>
            <p:cNvPr id="194" name=""/>
            <p:cNvSpPr/>
            <p:nvPr/>
          </p:nvSpPr>
          <p:spPr>
            <a:xfrm>
              <a:off x="838080" y="666720"/>
              <a:ext cx="77583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 flipV="1">
              <a:off x="8596440" y="379080"/>
              <a:ext cx="1440" cy="2970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DTD ja XML schema: mis ja miks 2 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990360"/>
            <a:ext cx="7848720" cy="593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Nii DTD kui XML schema on jällegi omaette keeled: grammatika kirjapaneku keeled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DTD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ärineb otseselt SGML-st, on suhteliselt lihtne, ning veidi piiratud võimalustega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XML schema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on uus grammatikakeel, spetsiaalselt XML jaoks, üpris võimas ja suhteliselt keerukam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NB! Ei DTD ega XML schema võimalda öelda midagi tagide ja atribuutide tähenduse kohta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: nad defineerivad ainult süntaksi ehk grammatika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DTD ja  XML schema on kasulikud kahel juhul: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elleks, et kirjutada kontrolliprogramm, mis kontrollib, kas mingi fail on õige süntaksiga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elleks, et programmeerija aru saaks, mis on antud keele grammatika. Tähenduse seletusi saab kirjutada näiteks kommentaaridesse. 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838080" y="379080"/>
            <a:ext cx="7759800" cy="297000"/>
            <a:chOff x="838080" y="379080"/>
            <a:chExt cx="7759800" cy="297000"/>
          </a:xfrm>
        </p:grpSpPr>
        <p:sp>
          <p:nvSpPr>
            <p:cNvPr id="199" name=""/>
            <p:cNvSpPr/>
            <p:nvPr/>
          </p:nvSpPr>
          <p:spPr>
            <a:xfrm>
              <a:off x="838080" y="666720"/>
              <a:ext cx="77583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V="1">
              <a:off x="8596440" y="379080"/>
              <a:ext cx="1440" cy="2970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76280" y="204480"/>
            <a:ext cx="834696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DTD: 1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-360" y="941040"/>
            <a:ext cx="8667720" cy="37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7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461880"/>
                <a:tab algn="l" pos="919080"/>
                <a:tab algn="l" pos="1376280"/>
                <a:tab algn="l" pos="1833480"/>
                <a:tab algn="l" pos="2290680"/>
                <a:tab algn="l" pos="2747880"/>
                <a:tab algn="l" pos="3205080"/>
                <a:tab algn="l" pos="3662280"/>
                <a:tab algn="l" pos="4119480"/>
                <a:tab algn="l" pos="4576680"/>
                <a:tab algn="l" pos="5033880"/>
                <a:tab algn="l" pos="5491080"/>
                <a:tab algn="l" pos="5948280"/>
                <a:tab algn="l" pos="6405480"/>
                <a:tab algn="l" pos="6862680"/>
                <a:tab algn="l" pos="7319880"/>
                <a:tab algn="l" pos="7777080"/>
                <a:tab algn="l" pos="8234280"/>
                <a:tab algn="l" pos="8691480"/>
                <a:tab algn="l" pos="914868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Iga  DTD defineerib ühe XML süntaksiga keele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61880"/>
                <a:tab algn="l" pos="919080"/>
                <a:tab algn="l" pos="1376280"/>
                <a:tab algn="l" pos="1833480"/>
                <a:tab algn="l" pos="2290680"/>
                <a:tab algn="l" pos="2747880"/>
                <a:tab algn="l" pos="3205080"/>
                <a:tab algn="l" pos="3662280"/>
                <a:tab algn="l" pos="4119480"/>
                <a:tab algn="l" pos="4576680"/>
                <a:tab algn="l" pos="5033880"/>
                <a:tab algn="l" pos="5491080"/>
                <a:tab algn="l" pos="5948280"/>
                <a:tab algn="l" pos="6405480"/>
                <a:tab algn="l" pos="6862680"/>
                <a:tab algn="l" pos="7319880"/>
                <a:tab algn="l" pos="7777080"/>
                <a:tab algn="l" pos="8234280"/>
                <a:tab algn="l" pos="8691480"/>
                <a:tab algn="l" pos="914868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•"/>
              <a:tabLst>
                <a:tab algn="l" pos="461880"/>
                <a:tab algn="l" pos="919080"/>
                <a:tab algn="l" pos="1376280"/>
                <a:tab algn="l" pos="1833480"/>
                <a:tab algn="l" pos="2290680"/>
                <a:tab algn="l" pos="2747880"/>
                <a:tab algn="l" pos="3205080"/>
                <a:tab algn="l" pos="3662280"/>
                <a:tab algn="l" pos="4119480"/>
                <a:tab algn="l" pos="4576680"/>
                <a:tab algn="l" pos="5033880"/>
                <a:tab algn="l" pos="5491080"/>
                <a:tab algn="l" pos="5948280"/>
                <a:tab algn="l" pos="6405480"/>
                <a:tab algn="l" pos="6862680"/>
                <a:tab algn="l" pos="7319880"/>
                <a:tab algn="l" pos="7777080"/>
                <a:tab algn="l" pos="8234280"/>
                <a:tab algn="l" pos="8691480"/>
                <a:tab algn="l" pos="914868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80"/>
                </a:solidFill>
                <a:latin typeface="Bitstream Vera Sans"/>
              </a:rPr>
              <a:t>&lt;!ELEMENT A   (B,C*)&gt;</a:t>
            </a:r>
            <a:r>
              <a:rPr b="0" lang="en-GB" sz="1800" spc="-1" strike="noStrike">
                <a:solidFill>
                  <a:srgbClr val="000080"/>
                </a:solidFill>
                <a:latin typeface="Bitstream Vera San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     Element A on konteiner,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•"/>
              <a:tabLst>
                <a:tab algn="l" pos="461880"/>
                <a:tab algn="l" pos="919080"/>
                <a:tab algn="l" pos="1376280"/>
                <a:tab algn="l" pos="1833480"/>
                <a:tab algn="l" pos="2290680"/>
                <a:tab algn="l" pos="2747880"/>
                <a:tab algn="l" pos="3205080"/>
                <a:tab algn="l" pos="3662280"/>
                <a:tab algn="l" pos="4119480"/>
                <a:tab algn="l" pos="4576680"/>
                <a:tab algn="l" pos="5033880"/>
                <a:tab algn="l" pos="5491080"/>
                <a:tab algn="l" pos="5948280"/>
                <a:tab algn="l" pos="6405480"/>
                <a:tab algn="l" pos="6862680"/>
                <a:tab algn="l" pos="7319880"/>
                <a:tab algn="l" pos="7777080"/>
                <a:tab algn="l" pos="8234280"/>
                <a:tab algn="l" pos="8691480"/>
                <a:tab algn="l" pos="914868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                                             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is sisaldab ühte elementi B,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•"/>
              <a:tabLst>
                <a:tab algn="l" pos="461880"/>
                <a:tab algn="l" pos="919080"/>
                <a:tab algn="l" pos="1376280"/>
                <a:tab algn="l" pos="1833480"/>
                <a:tab algn="l" pos="2290680"/>
                <a:tab algn="l" pos="2747880"/>
                <a:tab algn="l" pos="3205080"/>
                <a:tab algn="l" pos="3662280"/>
                <a:tab algn="l" pos="4119480"/>
                <a:tab algn="l" pos="4576680"/>
                <a:tab algn="l" pos="5033880"/>
                <a:tab algn="l" pos="5491080"/>
                <a:tab algn="l" pos="5948280"/>
                <a:tab algn="l" pos="6405480"/>
                <a:tab algn="l" pos="6862680"/>
                <a:tab algn="l" pos="7319880"/>
                <a:tab algn="l" pos="7777080"/>
                <a:tab algn="l" pos="8234280"/>
                <a:tab algn="l" pos="8691480"/>
                <a:tab algn="l" pos="914868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                                             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ille järel tuleb suvaline hulk C-sid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461880"/>
                <a:tab algn="l" pos="919080"/>
                <a:tab algn="l" pos="1376280"/>
                <a:tab algn="l" pos="1833480"/>
                <a:tab algn="l" pos="2290680"/>
                <a:tab algn="l" pos="2747880"/>
                <a:tab algn="l" pos="3205080"/>
                <a:tab algn="l" pos="3662280"/>
                <a:tab algn="l" pos="4119480"/>
                <a:tab algn="l" pos="4576680"/>
                <a:tab algn="l" pos="5033880"/>
                <a:tab algn="l" pos="5491080"/>
                <a:tab algn="l" pos="5948280"/>
                <a:tab algn="l" pos="6405480"/>
                <a:tab algn="l" pos="6862680"/>
                <a:tab algn="l" pos="7319880"/>
                <a:tab algn="l" pos="7777080"/>
                <a:tab algn="l" pos="8234280"/>
                <a:tab algn="l" pos="8691480"/>
                <a:tab algn="l" pos="914868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80"/>
                </a:solidFill>
                <a:latin typeface="Bitstream Vera Sans"/>
              </a:rPr>
              <a:t>&lt;!ELEMENT B   (#PCDATA)&gt;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lement B sisaldab tekstiandmeid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461880"/>
                <a:tab algn="l" pos="919080"/>
                <a:tab algn="l" pos="1376280"/>
                <a:tab algn="l" pos="1833480"/>
                <a:tab algn="l" pos="2290680"/>
                <a:tab algn="l" pos="2747880"/>
                <a:tab algn="l" pos="3205080"/>
                <a:tab algn="l" pos="3662280"/>
                <a:tab algn="l" pos="4119480"/>
                <a:tab algn="l" pos="4576680"/>
                <a:tab algn="l" pos="5033880"/>
                <a:tab algn="l" pos="5491080"/>
                <a:tab algn="l" pos="5948280"/>
                <a:tab algn="l" pos="6405480"/>
                <a:tab algn="l" pos="6862680"/>
                <a:tab algn="l" pos="7319880"/>
                <a:tab algn="l" pos="7777080"/>
                <a:tab algn="l" pos="8234280"/>
                <a:tab algn="l" pos="8691480"/>
                <a:tab algn="l" pos="914868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80"/>
                </a:solidFill>
                <a:latin typeface="Bitstream Vera Sans"/>
              </a:rPr>
              <a:t>&lt;!ELEMENT C   (#PCDATA)&gt;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lement C sisaldab tekstiandmeid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61880"/>
                <a:tab algn="l" pos="919080"/>
                <a:tab algn="l" pos="1376280"/>
                <a:tab algn="l" pos="1833480"/>
                <a:tab algn="l" pos="2290680"/>
                <a:tab algn="l" pos="2747880"/>
                <a:tab algn="l" pos="3205080"/>
                <a:tab algn="l" pos="3662280"/>
                <a:tab algn="l" pos="4119480"/>
                <a:tab algn="l" pos="4576680"/>
                <a:tab algn="l" pos="5033880"/>
                <a:tab algn="l" pos="5491080"/>
                <a:tab algn="l" pos="5948280"/>
                <a:tab algn="l" pos="6405480"/>
                <a:tab algn="l" pos="6862680"/>
                <a:tab algn="l" pos="7319880"/>
                <a:tab algn="l" pos="7777080"/>
                <a:tab algn="l" pos="8234280"/>
                <a:tab algn="l" pos="8691480"/>
                <a:tab algn="l" pos="914868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476280" y="3614760"/>
            <a:ext cx="2182680" cy="2233440"/>
            <a:chOff x="476280" y="3614760"/>
            <a:chExt cx="2182680" cy="2233440"/>
          </a:xfrm>
        </p:grpSpPr>
        <p:sp>
          <p:nvSpPr>
            <p:cNvPr id="204" name=""/>
            <p:cNvSpPr/>
            <p:nvPr/>
          </p:nvSpPr>
          <p:spPr>
            <a:xfrm>
              <a:off x="476280" y="3614760"/>
              <a:ext cx="2182680" cy="2233440"/>
            </a:xfrm>
            <a:custGeom>
              <a:avLst/>
              <a:gdLst>
                <a:gd name="textAreaLeft" fmla="*/ 360 w 2182680"/>
                <a:gd name="textAreaRight" fmla="*/ 2182320 w 2182680"/>
                <a:gd name="textAreaTop" fmla="*/ 360 h 2233440"/>
                <a:gd name="textAreaBottom" fmla="*/ 2233080 h 2233440"/>
              </a:gdLst>
              <a:ahLst/>
              <a:rect l="textAreaLeft" t="textAreaTop" r="textAreaRight" b="textAreaBottom"/>
              <a:pathLst>
                <a:path w="21600" h="22102">
                  <a:moveTo>
                    <a:pt x="15" y="0"/>
                  </a:moveTo>
                  <a:arcTo wR="15" hR="15" stAng="16200000" swAng="-5400000"/>
                  <a:lnTo>
                    <a:pt x="0" y="22087"/>
                  </a:lnTo>
                  <a:arcTo wR="15" hR="15" stAng="10800000" swAng="-5400000"/>
                  <a:lnTo>
                    <a:pt x="21585" y="22102"/>
                  </a:lnTo>
                  <a:arcTo wR="15" hR="15" stAng="5400000" swAng="-5400000"/>
                  <a:lnTo>
                    <a:pt x="21600" y="15"/>
                  </a:lnTo>
                  <a:arcTo wR="15" hR="15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58720" y="3614760"/>
              <a:ext cx="2017800" cy="1923480"/>
            </a:xfrm>
            <a:prstGeom prst="roundRect">
              <a:avLst>
                <a:gd name="adj" fmla="val 69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ahoma"/>
                  <a:ea typeface="Osaka"/>
                </a:rPr>
                <a:t>&lt;A&gt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ahoma"/>
                  <a:ea typeface="Osaka"/>
                </a:rPr>
                <a:t>  </a:t>
              </a:r>
              <a:r>
                <a:rPr b="0" lang="en-GB" sz="2400" spc="-1" strike="noStrike">
                  <a:solidFill>
                    <a:srgbClr val="000000"/>
                  </a:solidFill>
                  <a:latin typeface="Tahoma"/>
                  <a:ea typeface="Osaka"/>
                </a:rPr>
                <a:t>&lt;B&gt;foo&lt;/B&gt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ahoma"/>
                  <a:ea typeface="Osaka"/>
                </a:rPr>
                <a:t>  </a:t>
              </a:r>
              <a:r>
                <a:rPr b="0" lang="en-GB" sz="2400" spc="-1" strike="noStrike">
                  <a:solidFill>
                    <a:srgbClr val="000000"/>
                  </a:solidFill>
                  <a:latin typeface="Tahoma"/>
                  <a:ea typeface="Osaka"/>
                </a:rPr>
                <a:t>&lt;C&gt;bar&lt;/C&gt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ahoma"/>
                  <a:ea typeface="Osaka"/>
                </a:rPr>
                <a:t>  </a:t>
              </a:r>
              <a:r>
                <a:rPr b="0" lang="en-GB" sz="2400" spc="-1" strike="noStrike">
                  <a:solidFill>
                    <a:srgbClr val="000000"/>
                  </a:solidFill>
                  <a:latin typeface="Tahoma"/>
                  <a:ea typeface="Osaka"/>
                </a:rPr>
                <a:t>&lt;C&gt;lab&lt;/C&gt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ahoma"/>
                  <a:ea typeface="Osaka"/>
                </a:rPr>
                <a:t>&lt;/A&gt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3475080" y="3781440"/>
            <a:ext cx="1915920" cy="2562840"/>
            <a:chOff x="3475080" y="3781440"/>
            <a:chExt cx="1915920" cy="2562840"/>
          </a:xfrm>
        </p:grpSpPr>
        <p:grpSp>
          <p:nvGrpSpPr>
            <p:cNvPr id="207" name=""/>
            <p:cNvGrpSpPr/>
            <p:nvPr/>
          </p:nvGrpSpPr>
          <p:grpSpPr>
            <a:xfrm>
              <a:off x="3990960" y="4762440"/>
              <a:ext cx="936720" cy="549360"/>
              <a:chOff x="3990960" y="4762440"/>
              <a:chExt cx="936720" cy="549360"/>
            </a:xfrm>
          </p:grpSpPr>
          <p:sp>
            <p:nvSpPr>
              <p:cNvPr id="208" name=""/>
              <p:cNvSpPr/>
              <p:nvPr/>
            </p:nvSpPr>
            <p:spPr>
              <a:xfrm>
                <a:off x="3990960" y="4762440"/>
                <a:ext cx="936720" cy="549360"/>
              </a:xfrm>
              <a:prstGeom prst="roundRect">
                <a:avLst>
                  <a:gd name="adj" fmla="val 287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3990960" y="4762440"/>
                <a:ext cx="936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ahoma"/>
                    <a:ea typeface="Osaka"/>
                  </a:rPr>
                  <a:t>C:"bar"</a:t>
                </a:r>
                <a:r>
                  <a:rPr b="1" lang="en-GB" sz="1800" spc="-1" strike="noStrike">
                    <a:solidFill>
                      <a:srgbClr val="000000"/>
                    </a:solidFill>
                    <a:latin typeface="Tahoma"/>
                    <a:ea typeface="Osaka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0" name=""/>
            <p:cNvGrpSpPr/>
            <p:nvPr/>
          </p:nvGrpSpPr>
          <p:grpSpPr>
            <a:xfrm>
              <a:off x="3475080" y="3781440"/>
              <a:ext cx="1915920" cy="2562840"/>
              <a:chOff x="3475080" y="3781440"/>
              <a:chExt cx="1915920" cy="2562840"/>
            </a:xfrm>
          </p:grpSpPr>
          <p:sp>
            <p:nvSpPr>
              <p:cNvPr id="211" name=""/>
              <p:cNvSpPr/>
              <p:nvPr/>
            </p:nvSpPr>
            <p:spPr>
              <a:xfrm>
                <a:off x="3475080" y="3781440"/>
                <a:ext cx="1915920" cy="2185920"/>
              </a:xfrm>
              <a:custGeom>
                <a:avLst/>
                <a:gdLst>
                  <a:gd name="textAreaLeft" fmla="*/ 360 w 1915920"/>
                  <a:gd name="textAreaRight" fmla="*/ 1915560 w 1915920"/>
                  <a:gd name="textAreaTop" fmla="*/ 360 h 2185920"/>
                  <a:gd name="textAreaBottom" fmla="*/ 2185560 h 2185920"/>
                </a:gdLst>
                <a:ahLst/>
                <a:rect l="textAreaLeft" t="textAreaTop" r="textAreaRight" b="textAreaBottom"/>
                <a:pathLst>
                  <a:path w="21600" h="24643">
                    <a:moveTo>
                      <a:pt x="17" y="0"/>
                    </a:moveTo>
                    <a:arcTo wR="17" hR="17" stAng="16200000" swAng="-5400000"/>
                    <a:lnTo>
                      <a:pt x="0" y="24626"/>
                    </a:lnTo>
                    <a:arcTo wR="17" hR="17" stAng="10800000" swAng="-5400000"/>
                    <a:lnTo>
                      <a:pt x="21583" y="24643"/>
                    </a:lnTo>
                    <a:arcTo wR="17" hR="17" stAng="5400000" swAng="-5400000"/>
                    <a:lnTo>
                      <a:pt x="21600" y="17"/>
                    </a:lnTo>
                    <a:arcTo wR="17" hR="17" stAng="0" swAng="-5400000"/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3475080" y="3781440"/>
                <a:ext cx="1915920" cy="256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ffff00"/>
                    </a:solidFill>
                    <a:latin typeface="Tahoma"/>
                    <a:ea typeface="Osaka"/>
                  </a:rPr>
                  <a:t> 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ahoma"/>
                    <a:ea typeface="Osaka"/>
                  </a:rPr>
                  <a:t>A: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ahoma"/>
                    <a:ea typeface="Osaka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3" name=""/>
            <p:cNvGrpSpPr/>
            <p:nvPr/>
          </p:nvGrpSpPr>
          <p:grpSpPr>
            <a:xfrm>
              <a:off x="3989520" y="4081320"/>
              <a:ext cx="911160" cy="642600"/>
              <a:chOff x="3989520" y="4081320"/>
              <a:chExt cx="911160" cy="642600"/>
            </a:xfrm>
          </p:grpSpPr>
          <p:sp>
            <p:nvSpPr>
              <p:cNvPr id="214" name=""/>
              <p:cNvSpPr/>
              <p:nvPr/>
            </p:nvSpPr>
            <p:spPr>
              <a:xfrm>
                <a:off x="3989520" y="4081320"/>
                <a:ext cx="911160" cy="551160"/>
              </a:xfrm>
              <a:prstGeom prst="roundRect">
                <a:avLst>
                  <a:gd name="adj" fmla="val 287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3989520" y="4081320"/>
                <a:ext cx="9111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ahoma"/>
                    <a:ea typeface="Osaka"/>
                  </a:rPr>
                  <a:t>B:"foo"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6" name=""/>
            <p:cNvGrpSpPr/>
            <p:nvPr/>
          </p:nvGrpSpPr>
          <p:grpSpPr>
            <a:xfrm>
              <a:off x="3997440" y="5396040"/>
              <a:ext cx="936360" cy="549000"/>
              <a:chOff x="3997440" y="5396040"/>
              <a:chExt cx="936360" cy="549000"/>
            </a:xfrm>
          </p:grpSpPr>
          <p:sp>
            <p:nvSpPr>
              <p:cNvPr id="217" name=""/>
              <p:cNvSpPr/>
              <p:nvPr/>
            </p:nvSpPr>
            <p:spPr>
              <a:xfrm>
                <a:off x="3997440" y="5396040"/>
                <a:ext cx="936360" cy="549000"/>
              </a:xfrm>
              <a:prstGeom prst="roundRect">
                <a:avLst>
                  <a:gd name="adj" fmla="val 287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3997440" y="5396040"/>
                <a:ext cx="936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ahoma"/>
                    <a:ea typeface="Osaka"/>
                  </a:rPr>
                  <a:t>C:"lab"</a:t>
                </a:r>
                <a:r>
                  <a:rPr b="1" lang="en-GB" sz="1800" spc="-1" strike="noStrike">
                    <a:solidFill>
                      <a:srgbClr val="000000"/>
                    </a:solidFill>
                    <a:latin typeface="Tahoma"/>
                    <a:ea typeface="Osaka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19" name=""/>
          <p:cNvGrpSpPr/>
          <p:nvPr/>
        </p:nvGrpSpPr>
        <p:grpSpPr>
          <a:xfrm>
            <a:off x="5802480" y="3760920"/>
            <a:ext cx="2841480" cy="2257200"/>
            <a:chOff x="5802480" y="3760920"/>
            <a:chExt cx="2841480" cy="2257200"/>
          </a:xfrm>
        </p:grpSpPr>
        <p:sp>
          <p:nvSpPr>
            <p:cNvPr id="220" name=""/>
            <p:cNvSpPr/>
            <p:nvPr/>
          </p:nvSpPr>
          <p:spPr>
            <a:xfrm>
              <a:off x="7089840" y="3760920"/>
              <a:ext cx="336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ahoma"/>
                  <a:ea typeface="Osak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053040" y="4700520"/>
              <a:ext cx="336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ahoma"/>
                  <a:ea typeface="Osak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037280" y="4726080"/>
              <a:ext cx="336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ahoma"/>
                  <a:ea typeface="Osak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3" name=""/>
            <p:cNvGrpSpPr/>
            <p:nvPr/>
          </p:nvGrpSpPr>
          <p:grpSpPr>
            <a:xfrm>
              <a:off x="5802480" y="5614920"/>
              <a:ext cx="793440" cy="378000"/>
              <a:chOff x="5802480" y="5614920"/>
              <a:chExt cx="793440" cy="378000"/>
            </a:xfrm>
          </p:grpSpPr>
          <p:sp>
            <p:nvSpPr>
              <p:cNvPr id="224" name=""/>
              <p:cNvSpPr/>
              <p:nvPr/>
            </p:nvSpPr>
            <p:spPr>
              <a:xfrm>
                <a:off x="5802480" y="5614920"/>
                <a:ext cx="793440" cy="378000"/>
              </a:xfrm>
              <a:prstGeom prst="roundRect">
                <a:avLst>
                  <a:gd name="adj" fmla="val 41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5838840" y="5614920"/>
                <a:ext cx="723960" cy="369000"/>
              </a:xfrm>
              <a:prstGeom prst="roundRect">
                <a:avLst>
                  <a:gd name="adj" fmla="val 421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ahoma"/>
                    <a:ea typeface="Osaka"/>
                  </a:rPr>
                  <a:t>"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ahoma"/>
                    <a:ea typeface="Osaka"/>
                  </a:rPr>
                  <a:t>foo"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6" name=""/>
            <p:cNvGrpSpPr/>
            <p:nvPr/>
          </p:nvGrpSpPr>
          <p:grpSpPr>
            <a:xfrm>
              <a:off x="6788160" y="5635800"/>
              <a:ext cx="809640" cy="377640"/>
              <a:chOff x="6788160" y="5635800"/>
              <a:chExt cx="809640" cy="377640"/>
            </a:xfrm>
          </p:grpSpPr>
          <p:sp>
            <p:nvSpPr>
              <p:cNvPr id="227" name=""/>
              <p:cNvSpPr/>
              <p:nvPr/>
            </p:nvSpPr>
            <p:spPr>
              <a:xfrm>
                <a:off x="6788160" y="5635800"/>
                <a:ext cx="809640" cy="377640"/>
              </a:xfrm>
              <a:prstGeom prst="roundRect">
                <a:avLst>
                  <a:gd name="adj" fmla="val 41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6827040" y="5635800"/>
                <a:ext cx="730080" cy="369000"/>
              </a:xfrm>
              <a:prstGeom prst="roundRect">
                <a:avLst>
                  <a:gd name="adj" fmla="val 41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ahoma"/>
                    <a:ea typeface="Osaka"/>
                  </a:rPr>
                  <a:t>"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ahoma"/>
                    <a:ea typeface="Osaka"/>
                  </a:rPr>
                  <a:t>bar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ahoma"/>
                    <a:ea typeface="Osaka"/>
                  </a:rPr>
                  <a:t>"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7877160" y="5640480"/>
              <a:ext cx="766800" cy="377640"/>
              <a:chOff x="7877160" y="5640480"/>
              <a:chExt cx="766800" cy="377640"/>
            </a:xfrm>
          </p:grpSpPr>
          <p:sp>
            <p:nvSpPr>
              <p:cNvPr id="230" name=""/>
              <p:cNvSpPr/>
              <p:nvPr/>
            </p:nvSpPr>
            <p:spPr>
              <a:xfrm>
                <a:off x="7877160" y="5640480"/>
                <a:ext cx="766800" cy="377640"/>
              </a:xfrm>
              <a:prstGeom prst="roundRect">
                <a:avLst>
                  <a:gd name="adj" fmla="val 41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7913160" y="5640480"/>
                <a:ext cx="694800" cy="369000"/>
              </a:xfrm>
              <a:prstGeom prst="roundRect">
                <a:avLst>
                  <a:gd name="adj" fmla="val 41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ahoma"/>
                    <a:ea typeface="Osaka"/>
                  </a:rPr>
                  <a:t>"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ahoma"/>
                    <a:ea typeface="Osaka"/>
                  </a:rPr>
                  <a:t>lab"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2" name=""/>
            <p:cNvSpPr/>
            <p:nvPr/>
          </p:nvSpPr>
          <p:spPr>
            <a:xfrm>
              <a:off x="8089920" y="4705200"/>
              <a:ext cx="336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ahoma"/>
                  <a:ea typeface="Osak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6342120" y="4146480"/>
              <a:ext cx="804960" cy="595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7209000" y="4197240"/>
              <a:ext cx="1440" cy="59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7346880" y="4146480"/>
              <a:ext cx="811440" cy="638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215040" y="5060880"/>
              <a:ext cx="1440" cy="495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165800" y="5095800"/>
              <a:ext cx="1800" cy="495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8247240" y="5102280"/>
              <a:ext cx="1440" cy="495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9" name=""/>
          <p:cNvGrpSpPr/>
          <p:nvPr/>
        </p:nvGrpSpPr>
        <p:grpSpPr>
          <a:xfrm>
            <a:off x="582480" y="488520"/>
            <a:ext cx="7759800" cy="297000"/>
            <a:chOff x="582480" y="488520"/>
            <a:chExt cx="7759800" cy="297000"/>
          </a:xfrm>
        </p:grpSpPr>
        <p:sp>
          <p:nvSpPr>
            <p:cNvPr id="240" name=""/>
            <p:cNvSpPr/>
            <p:nvPr/>
          </p:nvSpPr>
          <p:spPr>
            <a:xfrm>
              <a:off x="582480" y="777960"/>
              <a:ext cx="77583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 flipV="1">
              <a:off x="8340840" y="488520"/>
              <a:ext cx="1440" cy="2970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Süntaks: tagid 1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8080" y="990360"/>
            <a:ext cx="7848720" cy="633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Igal tagil peab olema sulgev tag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XML fail sisuga  “&lt;koer&gt; Pontu” ei ole korrektne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Tagid ei tohi minna risti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(sisemine tag peab ka seespool sulguma):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koer&gt;&lt;kass&gt;Miisu&lt;/koer&gt;&lt;/kass&gt;   ei ole korrektne!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Andmeteksti “vahele” võib panna tagidega elemente: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kirjeldus&gt;Suur &lt;b&gt;sinine&lt;/b&gt; auto&lt;/kirjeldus&gt;   on OK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(andmetekstil on nö vaikimisi, nähtamatud CDATA tagid ümber: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 “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uur “ ja “auto” on näites eraldi andmetekstid)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838080" y="379080"/>
            <a:ext cx="7759800" cy="297000"/>
            <a:chOff x="838080" y="379080"/>
            <a:chExt cx="7759800" cy="297000"/>
          </a:xfrm>
        </p:grpSpPr>
        <p:sp>
          <p:nvSpPr>
            <p:cNvPr id="61" name=""/>
            <p:cNvSpPr/>
            <p:nvPr/>
          </p:nvSpPr>
          <p:spPr>
            <a:xfrm>
              <a:off x="838080" y="666720"/>
              <a:ext cx="77583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>
              <a:off x="8596440" y="379080"/>
              <a:ext cx="1440" cy="2970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DTD grammatikakeele omadusi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38080" y="990360"/>
            <a:ext cx="7848720" cy="590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lnSpc>
                <a:spcPct val="97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122400"/>
                <a:tab algn="l" pos="579600"/>
                <a:tab algn="l" pos="1036800"/>
                <a:tab algn="l" pos="1494000"/>
                <a:tab algn="l" pos="1951200"/>
                <a:tab algn="l" pos="2408400"/>
                <a:tab algn="l" pos="2865600"/>
                <a:tab algn="l" pos="3322800"/>
                <a:tab algn="l" pos="3780000"/>
                <a:tab algn="l" pos="4237200"/>
                <a:tab algn="l" pos="4694400"/>
                <a:tab algn="l" pos="5151600"/>
                <a:tab algn="l" pos="5608800"/>
                <a:tab algn="l" pos="6066000"/>
                <a:tab algn="l" pos="6523200"/>
                <a:tab algn="l" pos="6980400"/>
                <a:tab algn="l" pos="7437600"/>
                <a:tab algn="l" pos="7894800"/>
                <a:tab algn="l" pos="8352000"/>
                <a:tab algn="l" pos="88092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Peamine idee: rekursiivsed tüübid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(konteinerid)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431640" indent="-215640">
              <a:lnSpc>
                <a:spcPct val="97000"/>
              </a:lnSpc>
              <a:spcBef>
                <a:spcPts val="451"/>
              </a:spcBef>
              <a:buClr>
                <a:srgbClr val="800000"/>
              </a:buClr>
              <a:buFont typeface="Wingdings" charset="2"/>
              <a:buChar char=""/>
              <a:tabLst>
                <a:tab algn="l" pos="122400"/>
                <a:tab algn="l" pos="579600"/>
                <a:tab algn="l" pos="1036800"/>
                <a:tab algn="l" pos="1494000"/>
                <a:tab algn="l" pos="1951200"/>
                <a:tab algn="l" pos="2408400"/>
                <a:tab algn="l" pos="2865600"/>
                <a:tab algn="l" pos="3322800"/>
                <a:tab algn="l" pos="3780000"/>
                <a:tab algn="l" pos="4237200"/>
                <a:tab algn="l" pos="4694400"/>
                <a:tab algn="l" pos="5151600"/>
                <a:tab algn="l" pos="5608800"/>
                <a:tab algn="l" pos="6066000"/>
                <a:tab algn="l" pos="6523200"/>
                <a:tab algn="l" pos="6980400"/>
                <a:tab algn="l" pos="7437600"/>
                <a:tab algn="l" pos="7894800"/>
                <a:tab algn="l" pos="8352000"/>
                <a:tab algn="l" pos="88092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!ELEMENT A (B|C)&gt;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“</a:t>
            </a:r>
            <a:r>
              <a:rPr b="0" i="1" lang="en-GB" sz="1800" spc="-1" strike="noStrike">
                <a:solidFill>
                  <a:srgbClr val="000000"/>
                </a:solidFill>
                <a:latin typeface="Bitstream Vera Sans"/>
              </a:rPr>
              <a:t>võib sisaldada B-d..."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431640" indent="-215640">
              <a:lnSpc>
                <a:spcPct val="97000"/>
              </a:lnSpc>
              <a:spcBef>
                <a:spcPts val="451"/>
              </a:spcBef>
              <a:buClr>
                <a:srgbClr val="800000"/>
              </a:buClr>
              <a:buFont typeface="Wingdings" charset="2"/>
              <a:buChar char=""/>
              <a:tabLst>
                <a:tab algn="l" pos="122400"/>
                <a:tab algn="l" pos="579600"/>
                <a:tab algn="l" pos="1036800"/>
                <a:tab algn="l" pos="1494000"/>
                <a:tab algn="l" pos="1951200"/>
                <a:tab algn="l" pos="2408400"/>
                <a:tab algn="l" pos="2865600"/>
                <a:tab algn="l" pos="3322800"/>
                <a:tab algn="l" pos="3780000"/>
                <a:tab algn="l" pos="4237200"/>
                <a:tab algn="l" pos="4694400"/>
                <a:tab algn="l" pos="5151600"/>
                <a:tab algn="l" pos="5608800"/>
                <a:tab algn="l" pos="6066000"/>
                <a:tab algn="l" pos="6523200"/>
                <a:tab algn="l" pos="6980400"/>
                <a:tab algn="l" pos="7437600"/>
                <a:tab algn="l" pos="7894800"/>
                <a:tab algn="l" pos="8352000"/>
                <a:tab algn="l" pos="88092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!ELEMENT B (A|C)&gt;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r>
              <a:rPr b="0" i="1" lang="en-GB" sz="1800" spc="-1" strike="noStrike">
                <a:solidFill>
                  <a:srgbClr val="000000"/>
                </a:solidFill>
                <a:latin typeface="Bitstream Vera Sans"/>
              </a:rPr>
              <a:t>"... mis võib sisaldada A-d"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431640" indent="-215640">
              <a:lnSpc>
                <a:spcPct val="97000"/>
              </a:lnSpc>
              <a:spcBef>
                <a:spcPts val="451"/>
              </a:spcBef>
              <a:buClr>
                <a:srgbClr val="800000"/>
              </a:buClr>
              <a:buFont typeface="Wingdings" charset="2"/>
              <a:buChar char=""/>
              <a:tabLst>
                <a:tab algn="l" pos="122400"/>
                <a:tab algn="l" pos="579600"/>
                <a:tab algn="l" pos="1036800"/>
                <a:tab algn="l" pos="1494000"/>
                <a:tab algn="l" pos="1951200"/>
                <a:tab algn="l" pos="2408400"/>
                <a:tab algn="l" pos="2865600"/>
                <a:tab algn="l" pos="3322800"/>
                <a:tab algn="l" pos="3780000"/>
                <a:tab algn="l" pos="4237200"/>
                <a:tab algn="l" pos="4694400"/>
                <a:tab algn="l" pos="5151600"/>
                <a:tab algn="l" pos="5608800"/>
                <a:tab algn="l" pos="6066000"/>
                <a:tab algn="l" pos="6523200"/>
                <a:tab algn="l" pos="6980400"/>
                <a:tab algn="l" pos="7437600"/>
                <a:tab algn="l" pos="7894800"/>
                <a:tab algn="l" pos="8352000"/>
                <a:tab algn="l" pos="88092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!ELEMENT C (#PCDATA)&gt;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4316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122400"/>
                <a:tab algn="l" pos="579600"/>
                <a:tab algn="l" pos="1036800"/>
                <a:tab algn="l" pos="1494000"/>
                <a:tab algn="l" pos="1951200"/>
                <a:tab algn="l" pos="2408400"/>
                <a:tab algn="l" pos="2865600"/>
                <a:tab algn="l" pos="3322800"/>
                <a:tab algn="l" pos="3780000"/>
                <a:tab algn="l" pos="4237200"/>
                <a:tab algn="l" pos="4694400"/>
                <a:tab algn="l" pos="5151600"/>
                <a:tab algn="l" pos="5608800"/>
                <a:tab algn="l" pos="6066000"/>
                <a:tab algn="l" pos="6523200"/>
                <a:tab algn="l" pos="6980400"/>
                <a:tab algn="l" pos="7437600"/>
                <a:tab algn="l" pos="7894800"/>
                <a:tab algn="l" pos="8352000"/>
                <a:tab algn="l" pos="88092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>
              <a:lnSpc>
                <a:spcPct val="97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122400"/>
                <a:tab algn="l" pos="579600"/>
                <a:tab algn="l" pos="1036800"/>
                <a:tab algn="l" pos="1494000"/>
                <a:tab algn="l" pos="1951200"/>
                <a:tab algn="l" pos="2408400"/>
                <a:tab algn="l" pos="2865600"/>
                <a:tab algn="l" pos="3322800"/>
                <a:tab algn="l" pos="3780000"/>
                <a:tab algn="l" pos="4237200"/>
                <a:tab algn="l" pos="4694400"/>
                <a:tab algn="l" pos="5151600"/>
                <a:tab algn="l" pos="5608800"/>
                <a:tab algn="l" pos="6066000"/>
                <a:tab algn="l" pos="6523200"/>
                <a:tab algn="l" pos="6980400"/>
                <a:tab algn="l" pos="7437600"/>
                <a:tab algn="l" pos="7894800"/>
                <a:tab algn="l" pos="8352000"/>
                <a:tab algn="l" pos="88092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Nõrgad tüübid 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431640" indent="-215640">
              <a:lnSpc>
                <a:spcPct val="97000"/>
              </a:lnSpc>
              <a:spcBef>
                <a:spcPts val="451"/>
              </a:spcBef>
              <a:buClr>
                <a:srgbClr val="800000"/>
              </a:buClr>
              <a:buFont typeface="Wingdings" charset="2"/>
              <a:buChar char=""/>
              <a:tabLst>
                <a:tab algn="l" pos="122400"/>
                <a:tab algn="l" pos="579600"/>
                <a:tab algn="l" pos="1036800"/>
                <a:tab algn="l" pos="1494000"/>
                <a:tab algn="l" pos="1951200"/>
                <a:tab algn="l" pos="2408400"/>
                <a:tab algn="l" pos="2865600"/>
                <a:tab algn="l" pos="3322800"/>
                <a:tab algn="l" pos="3780000"/>
                <a:tab algn="l" pos="4237200"/>
                <a:tab algn="l" pos="4694400"/>
                <a:tab algn="l" pos="5151600"/>
                <a:tab algn="l" pos="5608800"/>
                <a:tab algn="l" pos="6066000"/>
                <a:tab algn="l" pos="6523200"/>
                <a:tab algn="l" pos="6980400"/>
                <a:tab algn="l" pos="7437600"/>
                <a:tab algn="l" pos="7894800"/>
                <a:tab algn="l" pos="8352000"/>
                <a:tab algn="l" pos="88092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!ELEMENT A     ANY&gt;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0" i="1" lang="en-GB" sz="1800" spc="-1" strike="noStrike">
                <a:solidFill>
                  <a:srgbClr val="000000"/>
                </a:solidFill>
                <a:latin typeface="Bitstream Vera Sans"/>
              </a:rPr>
              <a:t>"A võib sisaldada midaiganes"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4316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122400"/>
                <a:tab algn="l" pos="579600"/>
                <a:tab algn="l" pos="1036800"/>
                <a:tab algn="l" pos="1494000"/>
                <a:tab algn="l" pos="1951200"/>
                <a:tab algn="l" pos="2408400"/>
                <a:tab algn="l" pos="2865600"/>
                <a:tab algn="l" pos="3322800"/>
                <a:tab algn="l" pos="3780000"/>
                <a:tab algn="l" pos="4237200"/>
                <a:tab algn="l" pos="4694400"/>
                <a:tab algn="l" pos="5151600"/>
                <a:tab algn="l" pos="5608800"/>
                <a:tab algn="l" pos="6066000"/>
                <a:tab algn="l" pos="6523200"/>
                <a:tab algn="l" pos="6980400"/>
                <a:tab algn="l" pos="7437600"/>
                <a:tab algn="l" pos="7894800"/>
                <a:tab algn="l" pos="8352000"/>
                <a:tab algn="l" pos="88092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>
              <a:lnSpc>
                <a:spcPct val="97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122400"/>
                <a:tab algn="l" pos="579600"/>
                <a:tab algn="l" pos="1036800"/>
                <a:tab algn="l" pos="1494000"/>
                <a:tab algn="l" pos="1951200"/>
                <a:tab algn="l" pos="2408400"/>
                <a:tab algn="l" pos="2865600"/>
                <a:tab algn="l" pos="3322800"/>
                <a:tab algn="l" pos="3780000"/>
                <a:tab algn="l" pos="4237200"/>
                <a:tab algn="l" pos="4694400"/>
                <a:tab algn="l" pos="5151600"/>
                <a:tab algn="l" pos="5608800"/>
                <a:tab algn="l" pos="6066000"/>
                <a:tab algn="l" pos="6523200"/>
                <a:tab algn="l" pos="6980400"/>
                <a:tab algn="l" pos="7437600"/>
                <a:tab algn="l" pos="7894800"/>
                <a:tab algn="l" pos="8352000"/>
                <a:tab algn="l" pos="88092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Kontekstivaba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431640" indent="-215640">
              <a:lnSpc>
                <a:spcPct val="97000"/>
              </a:lnSpc>
              <a:spcBef>
                <a:spcPts val="451"/>
              </a:spcBef>
              <a:buClr>
                <a:srgbClr val="800000"/>
              </a:buClr>
              <a:buFont typeface="Wingdings" charset="2"/>
              <a:buChar char=""/>
              <a:tabLst>
                <a:tab algn="l" pos="122400"/>
                <a:tab algn="l" pos="579600"/>
                <a:tab algn="l" pos="1036800"/>
                <a:tab algn="l" pos="1494000"/>
                <a:tab algn="l" pos="1951200"/>
                <a:tab algn="l" pos="2408400"/>
                <a:tab algn="l" pos="2865600"/>
                <a:tab algn="l" pos="3322800"/>
                <a:tab algn="l" pos="3780000"/>
                <a:tab algn="l" pos="4237200"/>
                <a:tab algn="l" pos="4694400"/>
                <a:tab algn="l" pos="5151600"/>
                <a:tab algn="l" pos="5608800"/>
                <a:tab algn="l" pos="6066000"/>
                <a:tab algn="l" pos="6523200"/>
                <a:tab algn="l" pos="6980400"/>
                <a:tab algn="l" pos="7437600"/>
                <a:tab algn="l" pos="7894800"/>
                <a:tab algn="l" pos="8352000"/>
                <a:tab algn="l" pos="88092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DTD ei tee vahet “publisher”-del eri kontekstides: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647640" indent="-216000">
              <a:lnSpc>
                <a:spcPct val="97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"/>
              <a:tabLst>
                <a:tab algn="l" pos="122400"/>
                <a:tab algn="l" pos="579600"/>
                <a:tab algn="l" pos="1036800"/>
                <a:tab algn="l" pos="1494000"/>
                <a:tab algn="l" pos="1951200"/>
                <a:tab algn="l" pos="2408400"/>
                <a:tab algn="l" pos="2865600"/>
                <a:tab algn="l" pos="3322800"/>
                <a:tab algn="l" pos="3780000"/>
                <a:tab algn="l" pos="4237200"/>
                <a:tab algn="l" pos="4694400"/>
                <a:tab algn="l" pos="5151600"/>
                <a:tab algn="l" pos="5608800"/>
                <a:tab algn="l" pos="6066000"/>
                <a:tab algn="l" pos="6523200"/>
                <a:tab algn="l" pos="6980400"/>
                <a:tab algn="l" pos="7437600"/>
                <a:tab algn="l" pos="7894800"/>
                <a:tab algn="l" pos="8352000"/>
                <a:tab algn="l" pos="88092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journal&gt; &lt;publisher&gt;... &lt;/publisher&gt; &lt;/journal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647640" indent="-216000">
              <a:lnSpc>
                <a:spcPct val="97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"/>
              <a:tabLst>
                <a:tab algn="l" pos="122400"/>
                <a:tab algn="l" pos="579600"/>
                <a:tab algn="l" pos="1036800"/>
                <a:tab algn="l" pos="1494000"/>
                <a:tab algn="l" pos="1951200"/>
                <a:tab algn="l" pos="2408400"/>
                <a:tab algn="l" pos="2865600"/>
                <a:tab algn="l" pos="3322800"/>
                <a:tab algn="l" pos="3780000"/>
                <a:tab algn="l" pos="4237200"/>
                <a:tab algn="l" pos="4694400"/>
                <a:tab algn="l" pos="5151600"/>
                <a:tab algn="l" pos="5608800"/>
                <a:tab algn="l" pos="6066000"/>
                <a:tab algn="l" pos="6523200"/>
                <a:tab algn="l" pos="6980400"/>
                <a:tab algn="l" pos="7437600"/>
                <a:tab algn="l" pos="7894800"/>
                <a:tab algn="l" pos="8352000"/>
                <a:tab algn="l" pos="88092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website&gt; &lt;publisher&gt; ... &lt;/publisher&gt; &lt;/website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64764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122400"/>
                <a:tab algn="l" pos="579600"/>
                <a:tab algn="l" pos="1036800"/>
                <a:tab algn="l" pos="1494000"/>
                <a:tab algn="l" pos="1951200"/>
                <a:tab algn="l" pos="2408400"/>
                <a:tab algn="l" pos="2865600"/>
                <a:tab algn="l" pos="3322800"/>
                <a:tab algn="l" pos="3780000"/>
                <a:tab algn="l" pos="4237200"/>
                <a:tab algn="l" pos="4694400"/>
                <a:tab algn="l" pos="5151600"/>
                <a:tab algn="l" pos="5608800"/>
                <a:tab algn="l" pos="6066000"/>
                <a:tab algn="l" pos="6523200"/>
                <a:tab algn="l" pos="6980400"/>
                <a:tab algn="l" pos="7437600"/>
                <a:tab algn="l" pos="7894800"/>
                <a:tab algn="l" pos="8352000"/>
                <a:tab algn="l" pos="88092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>
              <a:lnSpc>
                <a:spcPct val="97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122400"/>
                <a:tab algn="l" pos="579600"/>
                <a:tab algn="l" pos="1036800"/>
                <a:tab algn="l" pos="1494000"/>
                <a:tab algn="l" pos="1951200"/>
                <a:tab algn="l" pos="2408400"/>
                <a:tab algn="l" pos="2865600"/>
                <a:tab algn="l" pos="3322800"/>
                <a:tab algn="l" pos="3780000"/>
                <a:tab algn="l" pos="4237200"/>
                <a:tab algn="l" pos="4694400"/>
                <a:tab algn="l" pos="5151600"/>
                <a:tab algn="l" pos="5608800"/>
                <a:tab algn="l" pos="6066000"/>
                <a:tab algn="l" pos="6523200"/>
                <a:tab algn="l" pos="6980400"/>
                <a:tab algn="l" pos="7437600"/>
                <a:tab algn="l" pos="7894800"/>
                <a:tab algn="l" pos="8352000"/>
                <a:tab algn="l" pos="88092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Ei saa defineerida tekstiandmete tüüpe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647640" indent="-216000">
              <a:lnSpc>
                <a:spcPct val="97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"/>
              <a:tabLst>
                <a:tab algn="l" pos="122400"/>
                <a:tab algn="l" pos="579600"/>
                <a:tab algn="l" pos="1036800"/>
                <a:tab algn="l" pos="1494000"/>
                <a:tab algn="l" pos="1951200"/>
                <a:tab algn="l" pos="2408400"/>
                <a:tab algn="l" pos="2865600"/>
                <a:tab algn="l" pos="3322800"/>
                <a:tab algn="l" pos="3780000"/>
                <a:tab algn="l" pos="4237200"/>
                <a:tab algn="l" pos="4694400"/>
                <a:tab algn="l" pos="5151600"/>
                <a:tab algn="l" pos="5608800"/>
                <a:tab algn="l" pos="6066000"/>
                <a:tab algn="l" pos="6523200"/>
                <a:tab algn="l" pos="6980400"/>
                <a:tab algn="l" pos="7437600"/>
                <a:tab algn="l" pos="7894800"/>
                <a:tab algn="l" pos="8352000"/>
                <a:tab algn="l" pos="88092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i saa näiteks öelda, et tag C sees peab olema arv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>
              <a:lnSpc>
                <a:spcPct val="97000"/>
              </a:lnSpc>
              <a:spcBef>
                <a:spcPts val="451"/>
              </a:spcBef>
              <a:buClr>
                <a:srgbClr val="800000"/>
              </a:buClr>
              <a:buFont typeface="Wingdings" charset="2"/>
              <a:buChar char=""/>
              <a:tabLst>
                <a:tab algn="l" pos="122400"/>
                <a:tab algn="l" pos="579600"/>
                <a:tab algn="l" pos="1036800"/>
                <a:tab algn="l" pos="1494000"/>
                <a:tab algn="l" pos="1951200"/>
                <a:tab algn="l" pos="2408400"/>
                <a:tab algn="l" pos="2865600"/>
                <a:tab algn="l" pos="3322800"/>
                <a:tab algn="l" pos="3780000"/>
                <a:tab algn="l" pos="4237200"/>
                <a:tab algn="l" pos="4694400"/>
                <a:tab algn="l" pos="5151600"/>
                <a:tab algn="l" pos="5608800"/>
                <a:tab algn="l" pos="6066000"/>
                <a:tab algn="l" pos="6523200"/>
                <a:tab algn="l" pos="6980400"/>
                <a:tab algn="l" pos="7437600"/>
                <a:tab algn="l" pos="7894800"/>
                <a:tab algn="l" pos="8352000"/>
                <a:tab algn="l" pos="88092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DTD süntaks ise ei ole “normaalne XML”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122400"/>
                <a:tab algn="l" pos="579600"/>
                <a:tab algn="l" pos="1036800"/>
                <a:tab algn="l" pos="1494000"/>
                <a:tab algn="l" pos="1951200"/>
                <a:tab algn="l" pos="2408400"/>
                <a:tab algn="l" pos="2865600"/>
                <a:tab algn="l" pos="3322800"/>
                <a:tab algn="l" pos="3780000"/>
                <a:tab algn="l" pos="4237200"/>
                <a:tab algn="l" pos="4694400"/>
                <a:tab algn="l" pos="5151600"/>
                <a:tab algn="l" pos="5608800"/>
                <a:tab algn="l" pos="6066000"/>
                <a:tab algn="l" pos="6523200"/>
                <a:tab algn="l" pos="6980400"/>
                <a:tab algn="l" pos="7437600"/>
                <a:tab algn="l" pos="7894800"/>
                <a:tab algn="l" pos="8352000"/>
                <a:tab algn="l" pos="88092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122400"/>
                <a:tab algn="l" pos="579600"/>
                <a:tab algn="l" pos="1036800"/>
                <a:tab algn="l" pos="1494000"/>
                <a:tab algn="l" pos="1951200"/>
                <a:tab algn="l" pos="2408400"/>
                <a:tab algn="l" pos="2865600"/>
                <a:tab algn="l" pos="3322800"/>
                <a:tab algn="l" pos="3780000"/>
                <a:tab algn="l" pos="4237200"/>
                <a:tab algn="l" pos="4694400"/>
                <a:tab algn="l" pos="5151600"/>
                <a:tab algn="l" pos="5608800"/>
                <a:tab algn="l" pos="6066000"/>
                <a:tab algn="l" pos="6523200"/>
                <a:tab algn="l" pos="6980400"/>
                <a:tab algn="l" pos="7437600"/>
                <a:tab algn="l" pos="7894800"/>
                <a:tab algn="l" pos="8352000"/>
                <a:tab algn="l" pos="88092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838080" y="379080"/>
            <a:ext cx="7759800" cy="297000"/>
            <a:chOff x="838080" y="379080"/>
            <a:chExt cx="7759800" cy="297000"/>
          </a:xfrm>
        </p:grpSpPr>
        <p:sp>
          <p:nvSpPr>
            <p:cNvPr id="245" name=""/>
            <p:cNvSpPr/>
            <p:nvPr/>
          </p:nvSpPr>
          <p:spPr>
            <a:xfrm>
              <a:off x="838080" y="666720"/>
              <a:ext cx="77583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 flipV="1">
              <a:off x="8596440" y="379080"/>
              <a:ext cx="1440" cy="2970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DTD näide eestist: PKK infovahetu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838080" y="990360"/>
            <a:ext cx="7848720" cy="138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6000"/>
          </a:bodyPr>
          <a:p>
            <a:pPr marL="2520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?xml version="1.0" encoding="ISO-8859-1"?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2520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2520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!--   Dokumendi juurelement --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2520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2520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!ELEMENT Vending-Message (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2520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            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rice_req | Price_req_resp |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2520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            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uthorization_report | Dispense_report |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2520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           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rrResponse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2520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)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2520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2520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!-- Versioon --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2520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2520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!ATTLIST Vending-Message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2520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           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version CDATA #FIXED '0.9'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2520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2520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2520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....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2520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2520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!--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2520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Dokumendis sisalduvad sõnumid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2520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=============================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2520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--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2520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2520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!-- Hinnapäring kaupmehele --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2520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!ELEMENT Price_req (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2520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erchant_id,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2520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roduct_id,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2520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ransaction_id,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2520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Customer?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2520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)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2520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2520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!-- Vastus sõnumile Price_req --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2520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!ELEMENT Price_req_resp (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2520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erchant_id,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2520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ransaction_id,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2520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mount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2520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)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2520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2520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!--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2520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rice_req_resp atribuudid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2520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2520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respcode - vastuskood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2520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000 - OK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2520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900 - Viga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2520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--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2520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!ATTLIST Price_req_resp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2520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respcode (000|900) #REQUIRED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2520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2520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2520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!-- Tehingukinnitus --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2520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!ELEMENT Authorization_report (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2520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erchant_id,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2520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ransaction_id,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2520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mount,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2520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imestamp,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2520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Customer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2520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)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2520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2520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2520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2520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49" name=""/>
          <p:cNvGrpSpPr/>
          <p:nvPr/>
        </p:nvGrpSpPr>
        <p:grpSpPr>
          <a:xfrm>
            <a:off x="838080" y="379080"/>
            <a:ext cx="7759800" cy="297000"/>
            <a:chOff x="838080" y="379080"/>
            <a:chExt cx="7759800" cy="297000"/>
          </a:xfrm>
        </p:grpSpPr>
        <p:sp>
          <p:nvSpPr>
            <p:cNvPr id="250" name=""/>
            <p:cNvSpPr/>
            <p:nvPr/>
          </p:nvSpPr>
          <p:spPr>
            <a:xfrm>
              <a:off x="838080" y="666720"/>
              <a:ext cx="77583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V="1">
              <a:off x="8596440" y="379080"/>
              <a:ext cx="1440" cy="2970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Näide jätkub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838080" y="990360"/>
            <a:ext cx="7848720" cy="570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!--   Dokumendis sisalduvad sõnumid --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!-- Hinnapäring kaupmehele --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!ELEMENT Price_req (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          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erchant_id,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          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roduct_id,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          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ransaction_id,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          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Customer?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)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!-- Vastus sõnumile Price_req --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!ELEMENT Price_req_resp (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          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erchant_id,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          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ransaction_id,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          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mount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)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838080" y="379080"/>
            <a:ext cx="7759800" cy="297000"/>
            <a:chOff x="838080" y="379080"/>
            <a:chExt cx="7759800" cy="297000"/>
          </a:xfrm>
        </p:grpSpPr>
        <p:sp>
          <p:nvSpPr>
            <p:cNvPr id="255" name=""/>
            <p:cNvSpPr/>
            <p:nvPr/>
          </p:nvSpPr>
          <p:spPr>
            <a:xfrm>
              <a:off x="838080" y="666720"/>
              <a:ext cx="77583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 flipV="1">
              <a:off x="8596440" y="379080"/>
              <a:ext cx="1440" cy="2970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DTD näide jätkub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838080" y="990360"/>
            <a:ext cx="7848720" cy="570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!-- Price_req_resp atribuudid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respcode - vastuskood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000 - OK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900 - Viga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--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!ATTLIST Price_req_resp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         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respcode (000|900) #REQUIRED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!-- Tehingukinnitus --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!ELEMENT Authorization_report (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           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erchant_id,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           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ransaction_id,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           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mount,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           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imestamp,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           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Customer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)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838080" y="379080"/>
            <a:ext cx="7759800" cy="297000"/>
            <a:chOff x="838080" y="379080"/>
            <a:chExt cx="7759800" cy="297000"/>
          </a:xfrm>
        </p:grpSpPr>
        <p:sp>
          <p:nvSpPr>
            <p:cNvPr id="260" name=""/>
            <p:cNvSpPr/>
            <p:nvPr/>
          </p:nvSpPr>
          <p:spPr>
            <a:xfrm>
              <a:off x="838080" y="666720"/>
              <a:ext cx="77583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>
              <a:off x="8596440" y="379080"/>
              <a:ext cx="1440" cy="2970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DTD näite lõpp (vahepealne puudu)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2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!-- Isiku perekonnanimi --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!ELEMENT last_name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(#PCDATA)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!-- Isiku telefoninumber rahvusvahelisel kujul --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!ELEMENT phone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(#PCDATA)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!--  Isiku postiaadress --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!ELEMENT postal_address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(#PCDATA)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!--  Isiku käsutuses oleva m-kommertsi RFID tagi number --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!ELEMENT rfid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(#PCDATA)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!--  Keelekood vastavalt ISO 639-2/T standardile (n: est, lav, rus)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--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!ELEMENT language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(#PCDATA)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64" name=""/>
          <p:cNvGrpSpPr/>
          <p:nvPr/>
        </p:nvGrpSpPr>
        <p:grpSpPr>
          <a:xfrm>
            <a:off x="838080" y="379080"/>
            <a:ext cx="7759800" cy="297000"/>
            <a:chOff x="838080" y="379080"/>
            <a:chExt cx="7759800" cy="297000"/>
          </a:xfrm>
        </p:grpSpPr>
        <p:sp>
          <p:nvSpPr>
            <p:cNvPr id="265" name=""/>
            <p:cNvSpPr/>
            <p:nvPr/>
          </p:nvSpPr>
          <p:spPr>
            <a:xfrm>
              <a:off x="838080" y="666720"/>
              <a:ext cx="77583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>
              <a:off x="8596440" y="379080"/>
              <a:ext cx="1440" cy="2970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XML schema ja muu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821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lnSpc>
                <a:spcPct val="97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"/>
              <a:tabLst>
                <a:tab algn="l" pos="122400"/>
                <a:tab algn="l" pos="579600"/>
                <a:tab algn="l" pos="1036800"/>
                <a:tab algn="l" pos="1494000"/>
                <a:tab algn="l" pos="1951200"/>
                <a:tab algn="l" pos="2408400"/>
                <a:tab algn="l" pos="2865600"/>
                <a:tab algn="l" pos="3322800"/>
                <a:tab algn="l" pos="3780000"/>
                <a:tab algn="l" pos="4237200"/>
                <a:tab algn="l" pos="4694400"/>
                <a:tab algn="l" pos="5151600"/>
                <a:tab algn="l" pos="5608800"/>
                <a:tab algn="l" pos="6066000"/>
                <a:tab algn="l" pos="6523200"/>
                <a:tab algn="l" pos="6980400"/>
                <a:tab algn="l" pos="7437600"/>
                <a:tab algn="l" pos="7894800"/>
                <a:tab algn="l" pos="8352000"/>
                <a:tab algn="l" pos="88092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oovitatakse kasutada DTD asemel: uuem ja võimsam keel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>
              <a:lnSpc>
                <a:spcPct val="97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"/>
              <a:tabLst>
                <a:tab algn="l" pos="122400"/>
                <a:tab algn="l" pos="579600"/>
                <a:tab algn="l" pos="1036800"/>
                <a:tab algn="l" pos="1494000"/>
                <a:tab algn="l" pos="1951200"/>
                <a:tab algn="l" pos="2408400"/>
                <a:tab algn="l" pos="2865600"/>
                <a:tab algn="l" pos="3322800"/>
                <a:tab algn="l" pos="3780000"/>
                <a:tab algn="l" pos="4237200"/>
                <a:tab algn="l" pos="4694400"/>
                <a:tab algn="l" pos="5151600"/>
                <a:tab algn="l" pos="5608800"/>
                <a:tab algn="l" pos="6066000"/>
                <a:tab algn="l" pos="6523200"/>
                <a:tab algn="l" pos="6980400"/>
                <a:tab algn="l" pos="7437600"/>
                <a:tab algn="l" pos="7894800"/>
                <a:tab algn="l" pos="8352000"/>
                <a:tab algn="l" pos="88092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akub võimalusi, mida DTD ei paku: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431640" indent="-215640">
              <a:lnSpc>
                <a:spcPct val="97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122400"/>
                <a:tab algn="l" pos="579600"/>
                <a:tab algn="l" pos="1036800"/>
                <a:tab algn="l" pos="1494000"/>
                <a:tab algn="l" pos="1951200"/>
                <a:tab algn="l" pos="2408400"/>
                <a:tab algn="l" pos="2865600"/>
                <a:tab algn="l" pos="3322800"/>
                <a:tab algn="l" pos="3780000"/>
                <a:tab algn="l" pos="4237200"/>
                <a:tab algn="l" pos="4694400"/>
                <a:tab algn="l" pos="5151600"/>
                <a:tab algn="l" pos="5608800"/>
                <a:tab algn="l" pos="6066000"/>
                <a:tab algn="l" pos="6523200"/>
                <a:tab algn="l" pos="6980400"/>
                <a:tab algn="l" pos="7437600"/>
                <a:tab algn="l" pos="7894800"/>
                <a:tab algn="l" pos="8352000"/>
                <a:tab algn="l" pos="88092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uur hulk andmetüüpe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431640" indent="-215640">
              <a:lnSpc>
                <a:spcPct val="97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122400"/>
                <a:tab algn="l" pos="579600"/>
                <a:tab algn="l" pos="1036800"/>
                <a:tab algn="l" pos="1494000"/>
                <a:tab algn="l" pos="1951200"/>
                <a:tab algn="l" pos="2408400"/>
                <a:tab algn="l" pos="2865600"/>
                <a:tab algn="l" pos="3322800"/>
                <a:tab algn="l" pos="3780000"/>
                <a:tab algn="l" pos="4237200"/>
                <a:tab algn="l" pos="4694400"/>
                <a:tab algn="l" pos="5151600"/>
                <a:tab algn="l" pos="5608800"/>
                <a:tab algn="l" pos="6066000"/>
                <a:tab algn="l" pos="6523200"/>
                <a:tab algn="l" pos="6980400"/>
                <a:tab algn="l" pos="7437600"/>
                <a:tab algn="l" pos="7894800"/>
                <a:tab algn="l" pos="8352000"/>
                <a:tab algn="l" pos="88092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asutaja defineeritud tüübid, alam/ülemtüübid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431640" indent="-215640">
              <a:lnSpc>
                <a:spcPct val="97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122400"/>
                <a:tab algn="l" pos="579600"/>
                <a:tab algn="l" pos="1036800"/>
                <a:tab algn="l" pos="1494000"/>
                <a:tab algn="l" pos="1951200"/>
                <a:tab algn="l" pos="2408400"/>
                <a:tab algn="l" pos="2865600"/>
                <a:tab algn="l" pos="3322800"/>
                <a:tab algn="l" pos="3780000"/>
                <a:tab algn="l" pos="4237200"/>
                <a:tab algn="l" pos="4694400"/>
                <a:tab algn="l" pos="5151600"/>
                <a:tab algn="l" pos="5608800"/>
                <a:tab algn="l" pos="6066000"/>
                <a:tab algn="l" pos="6523200"/>
                <a:tab algn="l" pos="6980400"/>
                <a:tab algn="l" pos="7437600"/>
                <a:tab algn="l" pos="7894800"/>
                <a:tab algn="l" pos="8352000"/>
                <a:tab algn="l" pos="88092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“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Cardinality constraints”: arvulised piirangud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431640" indent="-215640">
              <a:lnSpc>
                <a:spcPct val="97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122400"/>
                <a:tab algn="l" pos="579600"/>
                <a:tab algn="l" pos="1036800"/>
                <a:tab algn="l" pos="1494000"/>
                <a:tab algn="l" pos="1951200"/>
                <a:tab algn="l" pos="2408400"/>
                <a:tab algn="l" pos="2865600"/>
                <a:tab algn="l" pos="3322800"/>
                <a:tab algn="l" pos="3780000"/>
                <a:tab algn="l" pos="4237200"/>
                <a:tab algn="l" pos="4694400"/>
                <a:tab algn="l" pos="5151600"/>
                <a:tab algn="l" pos="5608800"/>
                <a:tab algn="l" pos="6066000"/>
                <a:tab algn="l" pos="6523200"/>
                <a:tab algn="l" pos="6980400"/>
                <a:tab algn="l" pos="7437600"/>
                <a:tab algn="l" pos="7894800"/>
                <a:tab algn="l" pos="8352000"/>
                <a:tab algn="l" pos="88092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XML schema keel ise on ka “normaalne XML”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4316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122400"/>
                <a:tab algn="l" pos="579600"/>
                <a:tab algn="l" pos="1036800"/>
                <a:tab algn="l" pos="1494000"/>
                <a:tab algn="l" pos="1951200"/>
                <a:tab algn="l" pos="2408400"/>
                <a:tab algn="l" pos="2865600"/>
                <a:tab algn="l" pos="3322800"/>
                <a:tab algn="l" pos="3780000"/>
                <a:tab algn="l" pos="4237200"/>
                <a:tab algn="l" pos="4694400"/>
                <a:tab algn="l" pos="5151600"/>
                <a:tab algn="l" pos="5608800"/>
                <a:tab algn="l" pos="6066000"/>
                <a:tab algn="l" pos="6523200"/>
                <a:tab algn="l" pos="6980400"/>
                <a:tab algn="l" pos="7437600"/>
                <a:tab algn="l" pos="7894800"/>
                <a:tab algn="l" pos="8352000"/>
                <a:tab algn="l" pos="88092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>
              <a:lnSpc>
                <a:spcPct val="97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"/>
              <a:tabLst>
                <a:tab algn="l" pos="122400"/>
                <a:tab algn="l" pos="579600"/>
                <a:tab algn="l" pos="1036800"/>
                <a:tab algn="l" pos="1494000"/>
                <a:tab algn="l" pos="1951200"/>
                <a:tab algn="l" pos="2408400"/>
                <a:tab algn="l" pos="2865600"/>
                <a:tab algn="l" pos="3322800"/>
                <a:tab algn="l" pos="3780000"/>
                <a:tab algn="l" pos="4237200"/>
                <a:tab algn="l" pos="4694400"/>
                <a:tab algn="l" pos="5151600"/>
                <a:tab algn="l" pos="5608800"/>
                <a:tab algn="l" pos="6066000"/>
                <a:tab algn="l" pos="6523200"/>
                <a:tab algn="l" pos="6980400"/>
                <a:tab algn="l" pos="7437600"/>
                <a:tab algn="l" pos="7894800"/>
                <a:tab algn="l" pos="8352000"/>
                <a:tab algn="l" pos="88092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On olemas veel mitmeid XML grammatikakeeli: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431640" indent="-215640">
              <a:lnSpc>
                <a:spcPct val="97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122400"/>
                <a:tab algn="l" pos="579600"/>
                <a:tab algn="l" pos="1036800"/>
                <a:tab algn="l" pos="1494000"/>
                <a:tab algn="l" pos="1951200"/>
                <a:tab algn="l" pos="2408400"/>
                <a:tab algn="l" pos="2865600"/>
                <a:tab algn="l" pos="3322800"/>
                <a:tab algn="l" pos="3780000"/>
                <a:tab algn="l" pos="4237200"/>
                <a:tab algn="l" pos="4694400"/>
                <a:tab algn="l" pos="5151600"/>
                <a:tab algn="l" pos="5608800"/>
                <a:tab algn="l" pos="6066000"/>
                <a:tab algn="l" pos="6523200"/>
                <a:tab algn="l" pos="6980400"/>
                <a:tab algn="l" pos="7437600"/>
                <a:tab algn="l" pos="7894800"/>
                <a:tab algn="l" pos="8352000"/>
                <a:tab algn="l" pos="88092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RELAX (REgular Language description for XML), SOX (Schema for Object-Oriented XML), Schematron, ..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4316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122400"/>
                <a:tab algn="l" pos="579600"/>
                <a:tab algn="l" pos="1036800"/>
                <a:tab algn="l" pos="1494000"/>
                <a:tab algn="l" pos="1951200"/>
                <a:tab algn="l" pos="2408400"/>
                <a:tab algn="l" pos="2865600"/>
                <a:tab algn="l" pos="3322800"/>
                <a:tab algn="l" pos="3780000"/>
                <a:tab algn="l" pos="4237200"/>
                <a:tab algn="l" pos="4694400"/>
                <a:tab algn="l" pos="5151600"/>
                <a:tab algn="l" pos="5608800"/>
                <a:tab algn="l" pos="6066000"/>
                <a:tab algn="l" pos="6523200"/>
                <a:tab algn="l" pos="6980400"/>
                <a:tab algn="l" pos="7437600"/>
                <a:tab algn="l" pos="7894800"/>
                <a:tab algn="l" pos="8352000"/>
                <a:tab algn="l" pos="88092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>
              <a:lnSpc>
                <a:spcPct val="97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"/>
              <a:tabLst>
                <a:tab algn="l" pos="122400"/>
                <a:tab algn="l" pos="579600"/>
                <a:tab algn="l" pos="1036800"/>
                <a:tab algn="l" pos="1494000"/>
                <a:tab algn="l" pos="1951200"/>
                <a:tab algn="l" pos="2408400"/>
                <a:tab algn="l" pos="2865600"/>
                <a:tab algn="l" pos="3322800"/>
                <a:tab algn="l" pos="3780000"/>
                <a:tab algn="l" pos="4237200"/>
                <a:tab algn="l" pos="4694400"/>
                <a:tab algn="l" pos="5151600"/>
                <a:tab algn="l" pos="5608800"/>
                <a:tab algn="l" pos="6066000"/>
                <a:tab algn="l" pos="6523200"/>
                <a:tab algn="l" pos="6980400"/>
                <a:tab algn="l" pos="7437600"/>
                <a:tab algn="l" pos="7894800"/>
                <a:tab algn="l" pos="8352000"/>
                <a:tab algn="l" pos="88092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ltenatiivne variant grammatika defineerimiseks: 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431640" indent="-215640">
              <a:lnSpc>
                <a:spcPct val="97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122400"/>
                <a:tab algn="l" pos="579600"/>
                <a:tab algn="l" pos="1036800"/>
                <a:tab algn="l" pos="1494000"/>
                <a:tab algn="l" pos="1951200"/>
                <a:tab algn="l" pos="2408400"/>
                <a:tab algn="l" pos="2865600"/>
                <a:tab algn="l" pos="3322800"/>
                <a:tab algn="l" pos="3780000"/>
                <a:tab algn="l" pos="4237200"/>
                <a:tab algn="l" pos="4694400"/>
                <a:tab algn="l" pos="5151600"/>
                <a:tab algn="l" pos="5608800"/>
                <a:tab algn="l" pos="6066000"/>
                <a:tab algn="l" pos="6523200"/>
                <a:tab algn="l" pos="6980400"/>
                <a:tab algn="l" pos="7437600"/>
                <a:tab algn="l" pos="7894800"/>
                <a:tab algn="l" pos="8352000"/>
                <a:tab algn="l" pos="88092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asutame mõnda muud grammatika/andmekirjelduskeelt (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(E)ER, UML, ORM, OO mudelid, ...)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>
              <a:lnSpc>
                <a:spcPct val="97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"/>
              <a:tabLst>
                <a:tab algn="l" pos="122400"/>
                <a:tab algn="l" pos="579600"/>
                <a:tab algn="l" pos="1036800"/>
                <a:tab algn="l" pos="1494000"/>
                <a:tab algn="l" pos="1951200"/>
                <a:tab algn="l" pos="2408400"/>
                <a:tab algn="l" pos="2865600"/>
                <a:tab algn="l" pos="3322800"/>
                <a:tab algn="l" pos="3780000"/>
                <a:tab algn="l" pos="4237200"/>
                <a:tab algn="l" pos="4694400"/>
                <a:tab algn="l" pos="5151600"/>
                <a:tab algn="l" pos="5608800"/>
                <a:tab algn="l" pos="6066000"/>
                <a:tab algn="l" pos="6523200"/>
                <a:tab algn="l" pos="6980400"/>
                <a:tab algn="l" pos="7437600"/>
                <a:tab algn="l" pos="7894800"/>
                <a:tab algn="l" pos="8352000"/>
                <a:tab algn="l" pos="88092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... ja paneme nad kirja XML süntaksiga!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431640" indent="-215640">
              <a:lnSpc>
                <a:spcPct val="97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122400"/>
                <a:tab algn="l" pos="579600"/>
                <a:tab algn="l" pos="1036800"/>
                <a:tab algn="l" pos="1494000"/>
                <a:tab algn="l" pos="1951200"/>
                <a:tab algn="l" pos="2408400"/>
                <a:tab algn="l" pos="2865600"/>
                <a:tab algn="l" pos="3322800"/>
                <a:tab algn="l" pos="3780000"/>
                <a:tab algn="l" pos="4237200"/>
                <a:tab algn="l" pos="4694400"/>
                <a:tab algn="l" pos="5151600"/>
                <a:tab algn="l" pos="5608800"/>
                <a:tab algn="l" pos="6066000"/>
                <a:tab algn="l" pos="6523200"/>
                <a:tab algn="l" pos="6980400"/>
                <a:tab algn="l" pos="7437600"/>
                <a:tab algn="l" pos="7894800"/>
                <a:tab algn="l" pos="8352000"/>
                <a:tab algn="l" pos="88092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näiteks. UML ja UXF (UML eXchange Format)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122400"/>
                <a:tab algn="l" pos="579600"/>
                <a:tab algn="l" pos="1036800"/>
                <a:tab algn="l" pos="1494000"/>
                <a:tab algn="l" pos="1951200"/>
                <a:tab algn="l" pos="2408400"/>
                <a:tab algn="l" pos="2865600"/>
                <a:tab algn="l" pos="3322800"/>
                <a:tab algn="l" pos="3780000"/>
                <a:tab algn="l" pos="4237200"/>
                <a:tab algn="l" pos="4694400"/>
                <a:tab algn="l" pos="5151600"/>
                <a:tab algn="l" pos="5608800"/>
                <a:tab algn="l" pos="6066000"/>
                <a:tab algn="l" pos="6523200"/>
                <a:tab algn="l" pos="6980400"/>
                <a:tab algn="l" pos="7437600"/>
                <a:tab algn="l" pos="7894800"/>
                <a:tab algn="l" pos="8352000"/>
                <a:tab algn="l" pos="88092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122400"/>
                <a:tab algn="l" pos="579600"/>
                <a:tab algn="l" pos="1036800"/>
                <a:tab algn="l" pos="1494000"/>
                <a:tab algn="l" pos="1951200"/>
                <a:tab algn="l" pos="2408400"/>
                <a:tab algn="l" pos="2865600"/>
                <a:tab algn="l" pos="3322800"/>
                <a:tab algn="l" pos="3780000"/>
                <a:tab algn="l" pos="4237200"/>
                <a:tab algn="l" pos="4694400"/>
                <a:tab algn="l" pos="5151600"/>
                <a:tab algn="l" pos="5608800"/>
                <a:tab algn="l" pos="6066000"/>
                <a:tab algn="l" pos="6523200"/>
                <a:tab algn="l" pos="6980400"/>
                <a:tab algn="l" pos="7437600"/>
                <a:tab algn="l" pos="7894800"/>
                <a:tab algn="l" pos="8352000"/>
                <a:tab algn="l" pos="88092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838080" y="379080"/>
            <a:ext cx="7759800" cy="297000"/>
            <a:chOff x="838080" y="379080"/>
            <a:chExt cx="7759800" cy="297000"/>
          </a:xfrm>
        </p:grpSpPr>
        <p:sp>
          <p:nvSpPr>
            <p:cNvPr id="270" name=""/>
            <p:cNvSpPr/>
            <p:nvPr/>
          </p:nvSpPr>
          <p:spPr>
            <a:xfrm>
              <a:off x="838080" y="666720"/>
              <a:ext cx="77583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>
              <a:off x="8596440" y="379080"/>
              <a:ext cx="1440" cy="2970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XML schema jupi näid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2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122400"/>
                <a:tab algn="l" pos="579600"/>
                <a:tab algn="l" pos="1036800"/>
                <a:tab algn="l" pos="1494000"/>
                <a:tab algn="l" pos="1951200"/>
                <a:tab algn="l" pos="2408400"/>
                <a:tab algn="l" pos="2865600"/>
                <a:tab algn="l" pos="3322800"/>
                <a:tab algn="l" pos="3780000"/>
                <a:tab algn="l" pos="4237200"/>
                <a:tab algn="l" pos="4694400"/>
                <a:tab algn="l" pos="5151600"/>
                <a:tab algn="l" pos="5608800"/>
                <a:tab algn="l" pos="6066000"/>
                <a:tab algn="l" pos="6523200"/>
                <a:tab algn="l" pos="6980400"/>
                <a:tab algn="l" pos="7437600"/>
                <a:tab algn="l" pos="7894800"/>
                <a:tab algn="l" pos="8352000"/>
                <a:tab algn="l" pos="88092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Courier New"/>
              </a:rPr>
              <a:t>&lt;xsd:complexType name="Order"&gt;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122400"/>
                <a:tab algn="l" pos="579600"/>
                <a:tab algn="l" pos="1036800"/>
                <a:tab algn="l" pos="1494000"/>
                <a:tab algn="l" pos="1951200"/>
                <a:tab algn="l" pos="2408400"/>
                <a:tab algn="l" pos="2865600"/>
                <a:tab algn="l" pos="3322800"/>
                <a:tab algn="l" pos="3780000"/>
                <a:tab algn="l" pos="4237200"/>
                <a:tab algn="l" pos="4694400"/>
                <a:tab algn="l" pos="5151600"/>
                <a:tab algn="l" pos="5608800"/>
                <a:tab algn="l" pos="6066000"/>
                <a:tab algn="l" pos="6523200"/>
                <a:tab algn="l" pos="6980400"/>
                <a:tab algn="l" pos="7437600"/>
                <a:tab algn="l" pos="7894800"/>
                <a:tab algn="l" pos="8352000"/>
                <a:tab algn="l" pos="88092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Courier New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Courier New"/>
              </a:rPr>
              <a:t>&lt;xsd:sequence&gt;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122400"/>
                <a:tab algn="l" pos="579600"/>
                <a:tab algn="l" pos="1036800"/>
                <a:tab algn="l" pos="1494000"/>
                <a:tab algn="l" pos="1951200"/>
                <a:tab algn="l" pos="2408400"/>
                <a:tab algn="l" pos="2865600"/>
                <a:tab algn="l" pos="3322800"/>
                <a:tab algn="l" pos="3780000"/>
                <a:tab algn="l" pos="4237200"/>
                <a:tab algn="l" pos="4694400"/>
                <a:tab algn="l" pos="5151600"/>
                <a:tab algn="l" pos="5608800"/>
                <a:tab algn="l" pos="6066000"/>
                <a:tab algn="l" pos="6523200"/>
                <a:tab algn="l" pos="6980400"/>
                <a:tab algn="l" pos="7437600"/>
                <a:tab algn="l" pos="7894800"/>
                <a:tab algn="l" pos="8352000"/>
                <a:tab algn="l" pos="88092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Courier New"/>
              </a:rPr>
              <a:t>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Courier New"/>
              </a:rPr>
              <a:t>&lt;xsd:element name="shipTo"  type="USAddress"/&gt;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122400"/>
                <a:tab algn="l" pos="579600"/>
                <a:tab algn="l" pos="1036800"/>
                <a:tab algn="l" pos="1494000"/>
                <a:tab algn="l" pos="1951200"/>
                <a:tab algn="l" pos="2408400"/>
                <a:tab algn="l" pos="2865600"/>
                <a:tab algn="l" pos="3322800"/>
                <a:tab algn="l" pos="3780000"/>
                <a:tab algn="l" pos="4237200"/>
                <a:tab algn="l" pos="4694400"/>
                <a:tab algn="l" pos="5151600"/>
                <a:tab algn="l" pos="5608800"/>
                <a:tab algn="l" pos="6066000"/>
                <a:tab algn="l" pos="6523200"/>
                <a:tab algn="l" pos="6980400"/>
                <a:tab algn="l" pos="7437600"/>
                <a:tab algn="l" pos="7894800"/>
                <a:tab algn="l" pos="8352000"/>
                <a:tab algn="l" pos="88092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Courier New"/>
              </a:rPr>
              <a:t>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Courier New"/>
              </a:rPr>
              <a:t>&lt;xsd:element name="billTo”  type="USAddress"/&gt;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122400"/>
                <a:tab algn="l" pos="579600"/>
                <a:tab algn="l" pos="1036800"/>
                <a:tab algn="l" pos="1494000"/>
                <a:tab algn="l" pos="1951200"/>
                <a:tab algn="l" pos="2408400"/>
                <a:tab algn="l" pos="2865600"/>
                <a:tab algn="l" pos="3322800"/>
                <a:tab algn="l" pos="3780000"/>
                <a:tab algn="l" pos="4237200"/>
                <a:tab algn="l" pos="4694400"/>
                <a:tab algn="l" pos="5151600"/>
                <a:tab algn="l" pos="5608800"/>
                <a:tab algn="l" pos="6066000"/>
                <a:tab algn="l" pos="6523200"/>
                <a:tab algn="l" pos="6980400"/>
                <a:tab algn="l" pos="7437600"/>
                <a:tab algn="l" pos="7894800"/>
                <a:tab algn="l" pos="8352000"/>
                <a:tab algn="l" pos="88092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Courier New"/>
              </a:rPr>
              <a:t>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Courier New"/>
              </a:rPr>
              <a:t>&lt;xsd:element ref="comment" minOccurs="0"/&gt;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122400"/>
                <a:tab algn="l" pos="579600"/>
                <a:tab algn="l" pos="1036800"/>
                <a:tab algn="l" pos="1494000"/>
                <a:tab algn="l" pos="1951200"/>
                <a:tab algn="l" pos="2408400"/>
                <a:tab algn="l" pos="2865600"/>
                <a:tab algn="l" pos="3322800"/>
                <a:tab algn="l" pos="3780000"/>
                <a:tab algn="l" pos="4237200"/>
                <a:tab algn="l" pos="4694400"/>
                <a:tab algn="l" pos="5151600"/>
                <a:tab algn="l" pos="5608800"/>
                <a:tab algn="l" pos="6066000"/>
                <a:tab algn="l" pos="6523200"/>
                <a:tab algn="l" pos="6980400"/>
                <a:tab algn="l" pos="7437600"/>
                <a:tab algn="l" pos="7894800"/>
                <a:tab algn="l" pos="8352000"/>
                <a:tab algn="l" pos="88092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Courier New"/>
              </a:rPr>
              <a:t>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Courier New"/>
              </a:rPr>
              <a:t>&lt;xsd:element name="items" type="Items"/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122400"/>
                <a:tab algn="l" pos="579600"/>
                <a:tab algn="l" pos="1036800"/>
                <a:tab algn="l" pos="1494000"/>
                <a:tab algn="l" pos="1951200"/>
                <a:tab algn="l" pos="2408400"/>
                <a:tab algn="l" pos="2865600"/>
                <a:tab algn="l" pos="3322800"/>
                <a:tab algn="l" pos="3780000"/>
                <a:tab algn="l" pos="4237200"/>
                <a:tab algn="l" pos="4694400"/>
                <a:tab algn="l" pos="5151600"/>
                <a:tab algn="l" pos="5608800"/>
                <a:tab algn="l" pos="6066000"/>
                <a:tab algn="l" pos="6523200"/>
                <a:tab algn="l" pos="6980400"/>
                <a:tab algn="l" pos="7437600"/>
                <a:tab algn="l" pos="7894800"/>
                <a:tab algn="l" pos="8352000"/>
                <a:tab algn="l" pos="88092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Courier New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Courier New"/>
              </a:rPr>
              <a:t>&lt;/xsd:sequence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122400"/>
                <a:tab algn="l" pos="579600"/>
                <a:tab algn="l" pos="1036800"/>
                <a:tab algn="l" pos="1494000"/>
                <a:tab algn="l" pos="1951200"/>
                <a:tab algn="l" pos="2408400"/>
                <a:tab algn="l" pos="2865600"/>
                <a:tab algn="l" pos="3322800"/>
                <a:tab algn="l" pos="3780000"/>
                <a:tab algn="l" pos="4237200"/>
                <a:tab algn="l" pos="4694400"/>
                <a:tab algn="l" pos="5151600"/>
                <a:tab algn="l" pos="5608800"/>
                <a:tab algn="l" pos="6066000"/>
                <a:tab algn="l" pos="6523200"/>
                <a:tab algn="l" pos="6980400"/>
                <a:tab algn="l" pos="7437600"/>
                <a:tab algn="l" pos="7894800"/>
                <a:tab algn="l" pos="8352000"/>
                <a:tab algn="l" pos="88092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Courier New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Courier New"/>
              </a:rPr>
              <a:t>&lt;xsd:attribute  name="orderDate” type="xsd:date"/&gt;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122400"/>
                <a:tab algn="l" pos="579600"/>
                <a:tab algn="l" pos="1036800"/>
                <a:tab algn="l" pos="1494000"/>
                <a:tab algn="l" pos="1951200"/>
                <a:tab algn="l" pos="2408400"/>
                <a:tab algn="l" pos="2865600"/>
                <a:tab algn="l" pos="3322800"/>
                <a:tab algn="l" pos="3780000"/>
                <a:tab algn="l" pos="4237200"/>
                <a:tab algn="l" pos="4694400"/>
                <a:tab algn="l" pos="5151600"/>
                <a:tab algn="l" pos="5608800"/>
                <a:tab algn="l" pos="6066000"/>
                <a:tab algn="l" pos="6523200"/>
                <a:tab algn="l" pos="6980400"/>
                <a:tab algn="l" pos="7437600"/>
                <a:tab algn="l" pos="7894800"/>
                <a:tab algn="l" pos="8352000"/>
                <a:tab algn="l" pos="88092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Courier New"/>
              </a:rPr>
              <a:t>&lt;/xsd:complexType&gt;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  <a:ea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122400"/>
                <a:tab algn="l" pos="579600"/>
                <a:tab algn="l" pos="1036800"/>
                <a:tab algn="l" pos="1494000"/>
                <a:tab algn="l" pos="1951200"/>
                <a:tab algn="l" pos="2408400"/>
                <a:tab algn="l" pos="2865600"/>
                <a:tab algn="l" pos="3322800"/>
                <a:tab algn="l" pos="3780000"/>
                <a:tab algn="l" pos="4237200"/>
                <a:tab algn="l" pos="4694400"/>
                <a:tab algn="l" pos="5151600"/>
                <a:tab algn="l" pos="5608800"/>
                <a:tab algn="l" pos="6066000"/>
                <a:tab algn="l" pos="6523200"/>
                <a:tab algn="l" pos="6980400"/>
                <a:tab algn="l" pos="7437600"/>
                <a:tab algn="l" pos="7894800"/>
                <a:tab algn="l" pos="8352000"/>
                <a:tab algn="l" pos="88092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122400"/>
                <a:tab algn="l" pos="579600"/>
                <a:tab algn="l" pos="1036800"/>
                <a:tab algn="l" pos="1494000"/>
                <a:tab algn="l" pos="1951200"/>
                <a:tab algn="l" pos="2408400"/>
                <a:tab algn="l" pos="2865600"/>
                <a:tab algn="l" pos="3322800"/>
                <a:tab algn="l" pos="3780000"/>
                <a:tab algn="l" pos="4237200"/>
                <a:tab algn="l" pos="4694400"/>
                <a:tab algn="l" pos="5151600"/>
                <a:tab algn="l" pos="5608800"/>
                <a:tab algn="l" pos="6066000"/>
                <a:tab algn="l" pos="6523200"/>
                <a:tab algn="l" pos="6980400"/>
                <a:tab algn="l" pos="7437600"/>
                <a:tab algn="l" pos="7894800"/>
                <a:tab algn="l" pos="8352000"/>
                <a:tab algn="l" pos="88092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122400"/>
                <a:tab algn="l" pos="579600"/>
                <a:tab algn="l" pos="1036800"/>
                <a:tab algn="l" pos="1494000"/>
                <a:tab algn="l" pos="1951200"/>
                <a:tab algn="l" pos="2408400"/>
                <a:tab algn="l" pos="2865600"/>
                <a:tab algn="l" pos="3322800"/>
                <a:tab algn="l" pos="3780000"/>
                <a:tab algn="l" pos="4237200"/>
                <a:tab algn="l" pos="4694400"/>
                <a:tab algn="l" pos="5151600"/>
                <a:tab algn="l" pos="5608800"/>
                <a:tab algn="l" pos="6066000"/>
                <a:tab algn="l" pos="6523200"/>
                <a:tab algn="l" pos="6980400"/>
                <a:tab algn="l" pos="7437600"/>
                <a:tab algn="l" pos="7894800"/>
                <a:tab algn="l" pos="8352000"/>
                <a:tab algn="l" pos="88092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74" name=""/>
          <p:cNvGrpSpPr/>
          <p:nvPr/>
        </p:nvGrpSpPr>
        <p:grpSpPr>
          <a:xfrm>
            <a:off x="838080" y="379080"/>
            <a:ext cx="7759800" cy="297000"/>
            <a:chOff x="838080" y="379080"/>
            <a:chExt cx="7759800" cy="297000"/>
          </a:xfrm>
        </p:grpSpPr>
        <p:sp>
          <p:nvSpPr>
            <p:cNvPr id="275" name=""/>
            <p:cNvSpPr/>
            <p:nvPr/>
          </p:nvSpPr>
          <p:spPr>
            <a:xfrm>
              <a:off x="838080" y="666720"/>
              <a:ext cx="77583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8596440" y="379080"/>
              <a:ext cx="1440" cy="2970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Süntaks: tagid  2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990360"/>
            <a:ext cx="7848720" cy="633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XML failil peab olema täpselt üks nn juurtag (root)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elline kaherealine fail on ebakorrektne: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koer&gt;Pontu&lt;/koer&gt; 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koer&gt;Pauka&lt;/koer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elline fail aga on korrektne: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koerad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koer&gt;Pontu&lt;/koer&gt; 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koer&gt;Pauka&lt;/koer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/koerad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838080" y="379080"/>
            <a:ext cx="7759800" cy="297000"/>
            <a:chOff x="838080" y="379080"/>
            <a:chExt cx="7759800" cy="297000"/>
          </a:xfrm>
        </p:grpSpPr>
        <p:sp>
          <p:nvSpPr>
            <p:cNvPr id="66" name=""/>
            <p:cNvSpPr/>
            <p:nvPr/>
          </p:nvSpPr>
          <p:spPr>
            <a:xfrm>
              <a:off x="838080" y="666720"/>
              <a:ext cx="77583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V="1">
              <a:off x="8596440" y="379080"/>
              <a:ext cx="1440" cy="2970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Süntaks: tagid 3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65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Tagi võib kasutada suvaliste laste ja atribuutidega: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orrektse, kuid rumala struktuuriga XMLi näide: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koer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koer vanus=”100”/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koer nimi=”Pontu”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    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koer&gt;12&lt;/koer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    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koer&gt;22&lt;/koer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/koer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/koer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838080" y="379080"/>
            <a:ext cx="7759800" cy="297000"/>
            <a:chOff x="838080" y="379080"/>
            <a:chExt cx="7759800" cy="297000"/>
          </a:xfrm>
        </p:grpSpPr>
        <p:sp>
          <p:nvSpPr>
            <p:cNvPr id="71" name=""/>
            <p:cNvSpPr/>
            <p:nvPr/>
          </p:nvSpPr>
          <p:spPr>
            <a:xfrm>
              <a:off x="838080" y="666720"/>
              <a:ext cx="77583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V="1">
              <a:off x="8596440" y="379080"/>
              <a:ext cx="1440" cy="2970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Süntaks: järjekord 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6022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Elementide järjekord on  XML tekstis oluline: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NB!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aljude rakenduste jaoks järjekord ei loe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raldiseisva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“xml infoset”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tandardi jaoks atribuutide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järjekord ei ole oluline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838080" y="379080"/>
            <a:ext cx="7759800" cy="297000"/>
            <a:chOff x="838080" y="379080"/>
            <a:chExt cx="7759800" cy="297000"/>
          </a:xfrm>
        </p:grpSpPr>
        <p:sp>
          <p:nvSpPr>
            <p:cNvPr id="76" name=""/>
            <p:cNvSpPr/>
            <p:nvPr/>
          </p:nvSpPr>
          <p:spPr>
            <a:xfrm>
              <a:off x="838080" y="666720"/>
              <a:ext cx="77583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V="1">
              <a:off x="8596440" y="379080"/>
              <a:ext cx="1440" cy="2970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611280" y="1441440"/>
            <a:ext cx="3944880" cy="3919680"/>
          </a:xfrm>
          <a:prstGeom prst="roundRect">
            <a:avLst>
              <a:gd name="adj" fmla="val 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8000" y="1576440"/>
            <a:ext cx="5302800" cy="3435120"/>
          </a:xfrm>
          <a:prstGeom prst="roundRect">
            <a:avLst>
              <a:gd name="adj" fmla="val 4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1" marL="731880" indent="-274680">
              <a:lnSpc>
                <a:spcPct val="97000"/>
              </a:lnSpc>
              <a:spcBef>
                <a:spcPts val="400"/>
              </a:spcBef>
              <a:tabLst>
                <a:tab algn="l" pos="0"/>
                <a:tab algn="l" pos="731880"/>
                <a:tab algn="l" pos="1189080"/>
                <a:tab algn="l" pos="1646280"/>
                <a:tab algn="l" pos="2103480"/>
                <a:tab algn="l" pos="2560680"/>
                <a:tab algn="l" pos="3017880"/>
                <a:tab algn="l" pos="3475080"/>
                <a:tab algn="l" pos="3932280"/>
                <a:tab algn="l" pos="4389480"/>
                <a:tab algn="l" pos="4846680"/>
                <a:tab algn="l" pos="5303880"/>
                <a:tab algn="l" pos="5761080"/>
                <a:tab algn="l" pos="6218280"/>
                <a:tab algn="l" pos="6675480"/>
                <a:tab algn="l" pos="7132680"/>
                <a:tab algn="l" pos="7589880"/>
                <a:tab algn="l" pos="8047080"/>
                <a:tab algn="l" pos="8504280"/>
                <a:tab algn="l" pos="8961480"/>
                <a:tab algn="l" pos="9418680"/>
                <a:tab algn="l" pos="987588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&lt;isik&gt;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1880" indent="-274680">
              <a:lnSpc>
                <a:spcPct val="97000"/>
              </a:lnSpc>
              <a:spcBef>
                <a:spcPts val="400"/>
              </a:spcBef>
              <a:tabLst>
                <a:tab algn="l" pos="0"/>
                <a:tab algn="l" pos="731880"/>
                <a:tab algn="l" pos="1189080"/>
                <a:tab algn="l" pos="1646280"/>
                <a:tab algn="l" pos="2103480"/>
                <a:tab algn="l" pos="2560680"/>
                <a:tab algn="l" pos="3017880"/>
                <a:tab algn="l" pos="3475080"/>
                <a:tab algn="l" pos="3932280"/>
                <a:tab algn="l" pos="4389480"/>
                <a:tab algn="l" pos="4846680"/>
                <a:tab algn="l" pos="5303880"/>
                <a:tab algn="l" pos="5761080"/>
                <a:tab algn="l" pos="6218280"/>
                <a:tab algn="l" pos="6675480"/>
                <a:tab algn="l" pos="7132680"/>
                <a:tab algn="l" pos="7589880"/>
                <a:tab algn="l" pos="8047080"/>
                <a:tab algn="l" pos="8504280"/>
                <a:tab algn="l" pos="8961480"/>
                <a:tab algn="l" pos="9418680"/>
                <a:tab algn="l" pos="987588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    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&lt;nimi&gt;Tanel&lt;/nimi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1880" indent="-274680">
              <a:lnSpc>
                <a:spcPct val="97000"/>
              </a:lnSpc>
              <a:spcBef>
                <a:spcPts val="400"/>
              </a:spcBef>
              <a:tabLst>
                <a:tab algn="l" pos="0"/>
                <a:tab algn="l" pos="731880"/>
                <a:tab algn="l" pos="1189080"/>
                <a:tab algn="l" pos="1646280"/>
                <a:tab algn="l" pos="2103480"/>
                <a:tab algn="l" pos="2560680"/>
                <a:tab algn="l" pos="3017880"/>
                <a:tab algn="l" pos="3475080"/>
                <a:tab algn="l" pos="3932280"/>
                <a:tab algn="l" pos="4389480"/>
                <a:tab algn="l" pos="4846680"/>
                <a:tab algn="l" pos="5303880"/>
                <a:tab algn="l" pos="5761080"/>
                <a:tab algn="l" pos="6218280"/>
                <a:tab algn="l" pos="6675480"/>
                <a:tab algn="l" pos="7132680"/>
                <a:tab algn="l" pos="7589880"/>
                <a:tab algn="l" pos="8047080"/>
                <a:tab algn="l" pos="8504280"/>
                <a:tab algn="l" pos="8961480"/>
                <a:tab algn="l" pos="9418680"/>
                <a:tab algn="l" pos="987588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    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&lt;nimi&gt;Jaan&lt;/nimi&gt;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1880" indent="-274680">
              <a:lnSpc>
                <a:spcPct val="97000"/>
              </a:lnSpc>
              <a:spcBef>
                <a:spcPts val="400"/>
              </a:spcBef>
              <a:tabLst>
                <a:tab algn="l" pos="0"/>
                <a:tab algn="l" pos="731880"/>
                <a:tab algn="l" pos="1189080"/>
                <a:tab algn="l" pos="1646280"/>
                <a:tab algn="l" pos="2103480"/>
                <a:tab algn="l" pos="2560680"/>
                <a:tab algn="l" pos="3017880"/>
                <a:tab algn="l" pos="3475080"/>
                <a:tab algn="l" pos="3932280"/>
                <a:tab algn="l" pos="4389480"/>
                <a:tab algn="l" pos="4846680"/>
                <a:tab algn="l" pos="5303880"/>
                <a:tab algn="l" pos="5761080"/>
                <a:tab algn="l" pos="6218280"/>
                <a:tab algn="l" pos="6675480"/>
                <a:tab algn="l" pos="7132680"/>
                <a:tab algn="l" pos="7589880"/>
                <a:tab algn="l" pos="8047080"/>
                <a:tab algn="l" pos="8504280"/>
                <a:tab algn="l" pos="8961480"/>
                <a:tab algn="l" pos="9418680"/>
                <a:tab algn="l" pos="987588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&lt;/isik&gt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1880" indent="-274680">
              <a:lnSpc>
                <a:spcPct val="97000"/>
              </a:lnSpc>
              <a:spcBef>
                <a:spcPts val="400"/>
              </a:spcBef>
              <a:tabLst>
                <a:tab algn="l" pos="0"/>
                <a:tab algn="l" pos="731880"/>
                <a:tab algn="l" pos="1189080"/>
                <a:tab algn="l" pos="1646280"/>
                <a:tab algn="l" pos="2103480"/>
                <a:tab algn="l" pos="2560680"/>
                <a:tab algn="l" pos="3017880"/>
                <a:tab algn="l" pos="3475080"/>
                <a:tab algn="l" pos="3932280"/>
                <a:tab algn="l" pos="4389480"/>
                <a:tab algn="l" pos="4846680"/>
                <a:tab algn="l" pos="5303880"/>
                <a:tab algn="l" pos="5761080"/>
                <a:tab algn="l" pos="6218280"/>
                <a:tab algn="l" pos="6675480"/>
                <a:tab algn="l" pos="7132680"/>
                <a:tab algn="l" pos="7589880"/>
                <a:tab algn="l" pos="8047080"/>
                <a:tab algn="l" pos="8504280"/>
                <a:tab algn="l" pos="8961480"/>
                <a:tab algn="l" pos="9418680"/>
                <a:tab algn="l" pos="987588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1880" indent="-274680">
              <a:lnSpc>
                <a:spcPct val="97000"/>
              </a:lnSpc>
              <a:spcBef>
                <a:spcPts val="400"/>
              </a:spcBef>
              <a:tabLst>
                <a:tab algn="l" pos="0"/>
                <a:tab algn="l" pos="731880"/>
                <a:tab algn="l" pos="1189080"/>
                <a:tab algn="l" pos="1646280"/>
                <a:tab algn="l" pos="2103480"/>
                <a:tab algn="l" pos="2560680"/>
                <a:tab algn="l" pos="3017880"/>
                <a:tab algn="l" pos="3475080"/>
                <a:tab algn="l" pos="3932280"/>
                <a:tab algn="l" pos="4389480"/>
                <a:tab algn="l" pos="4846680"/>
                <a:tab algn="l" pos="5303880"/>
                <a:tab algn="l" pos="5761080"/>
                <a:tab algn="l" pos="6218280"/>
                <a:tab algn="l" pos="6675480"/>
                <a:tab algn="l" pos="7132680"/>
                <a:tab algn="l" pos="7589880"/>
                <a:tab algn="l" pos="8047080"/>
                <a:tab algn="l" pos="8504280"/>
                <a:tab algn="l" pos="8961480"/>
                <a:tab algn="l" pos="9418680"/>
                <a:tab algn="l" pos="987588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 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on  teine asi, ku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1880" indent="-274680">
              <a:lnSpc>
                <a:spcPct val="97000"/>
              </a:lnSpc>
              <a:spcBef>
                <a:spcPts val="400"/>
              </a:spcBef>
              <a:tabLst>
                <a:tab algn="l" pos="0"/>
                <a:tab algn="l" pos="731880"/>
                <a:tab algn="l" pos="1189080"/>
                <a:tab algn="l" pos="1646280"/>
                <a:tab algn="l" pos="2103480"/>
                <a:tab algn="l" pos="2560680"/>
                <a:tab algn="l" pos="3017880"/>
                <a:tab algn="l" pos="3475080"/>
                <a:tab algn="l" pos="3932280"/>
                <a:tab algn="l" pos="4389480"/>
                <a:tab algn="l" pos="4846680"/>
                <a:tab algn="l" pos="5303880"/>
                <a:tab algn="l" pos="5761080"/>
                <a:tab algn="l" pos="6218280"/>
                <a:tab algn="l" pos="6675480"/>
                <a:tab algn="l" pos="7132680"/>
                <a:tab algn="l" pos="7589880"/>
                <a:tab algn="l" pos="8047080"/>
                <a:tab algn="l" pos="8504280"/>
                <a:tab algn="l" pos="8961480"/>
                <a:tab algn="l" pos="9418680"/>
                <a:tab algn="l" pos="987588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1880" indent="-274680">
              <a:lnSpc>
                <a:spcPct val="97000"/>
              </a:lnSpc>
              <a:spcBef>
                <a:spcPts val="400"/>
              </a:spcBef>
              <a:tabLst>
                <a:tab algn="l" pos="0"/>
                <a:tab algn="l" pos="731880"/>
                <a:tab algn="l" pos="1189080"/>
                <a:tab algn="l" pos="1646280"/>
                <a:tab algn="l" pos="2103480"/>
                <a:tab algn="l" pos="2560680"/>
                <a:tab algn="l" pos="3017880"/>
                <a:tab algn="l" pos="3475080"/>
                <a:tab algn="l" pos="3932280"/>
                <a:tab algn="l" pos="4389480"/>
                <a:tab algn="l" pos="4846680"/>
                <a:tab algn="l" pos="5303880"/>
                <a:tab algn="l" pos="5761080"/>
                <a:tab algn="l" pos="6218280"/>
                <a:tab algn="l" pos="6675480"/>
                <a:tab algn="l" pos="7132680"/>
                <a:tab algn="l" pos="7589880"/>
                <a:tab algn="l" pos="8047080"/>
                <a:tab algn="l" pos="8504280"/>
                <a:tab algn="l" pos="8961480"/>
                <a:tab algn="l" pos="9418680"/>
                <a:tab algn="l" pos="987588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&lt;isik&gt;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1880" indent="-274680">
              <a:lnSpc>
                <a:spcPct val="97000"/>
              </a:lnSpc>
              <a:spcBef>
                <a:spcPts val="400"/>
              </a:spcBef>
              <a:tabLst>
                <a:tab algn="l" pos="0"/>
                <a:tab algn="l" pos="731880"/>
                <a:tab algn="l" pos="1189080"/>
                <a:tab algn="l" pos="1646280"/>
                <a:tab algn="l" pos="2103480"/>
                <a:tab algn="l" pos="2560680"/>
                <a:tab algn="l" pos="3017880"/>
                <a:tab algn="l" pos="3475080"/>
                <a:tab algn="l" pos="3932280"/>
                <a:tab algn="l" pos="4389480"/>
                <a:tab algn="l" pos="4846680"/>
                <a:tab algn="l" pos="5303880"/>
                <a:tab algn="l" pos="5761080"/>
                <a:tab algn="l" pos="6218280"/>
                <a:tab algn="l" pos="6675480"/>
                <a:tab algn="l" pos="7132680"/>
                <a:tab algn="l" pos="7589880"/>
                <a:tab algn="l" pos="8047080"/>
                <a:tab algn="l" pos="8504280"/>
                <a:tab algn="l" pos="8961480"/>
                <a:tab algn="l" pos="9418680"/>
                <a:tab algn="l" pos="987588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    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&lt;nimi&gt;Jaan&lt;/nimi&gt;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1880" indent="-274680">
              <a:lnSpc>
                <a:spcPct val="97000"/>
              </a:lnSpc>
              <a:spcBef>
                <a:spcPts val="400"/>
              </a:spcBef>
              <a:tabLst>
                <a:tab algn="l" pos="0"/>
                <a:tab algn="l" pos="731880"/>
                <a:tab algn="l" pos="1189080"/>
                <a:tab algn="l" pos="1646280"/>
                <a:tab algn="l" pos="2103480"/>
                <a:tab algn="l" pos="2560680"/>
                <a:tab algn="l" pos="3017880"/>
                <a:tab algn="l" pos="3475080"/>
                <a:tab algn="l" pos="3932280"/>
                <a:tab algn="l" pos="4389480"/>
                <a:tab algn="l" pos="4846680"/>
                <a:tab algn="l" pos="5303880"/>
                <a:tab algn="l" pos="5761080"/>
                <a:tab algn="l" pos="6218280"/>
                <a:tab algn="l" pos="6675480"/>
                <a:tab algn="l" pos="7132680"/>
                <a:tab algn="l" pos="7589880"/>
                <a:tab algn="l" pos="8047080"/>
                <a:tab algn="l" pos="8504280"/>
                <a:tab algn="l" pos="8961480"/>
                <a:tab algn="l" pos="9418680"/>
                <a:tab algn="l" pos="987588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    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&lt;nimi&gt;Tanel&lt;/nimi&gt;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1880" indent="-274680">
              <a:lnSpc>
                <a:spcPct val="97000"/>
              </a:lnSpc>
              <a:spcBef>
                <a:spcPts val="400"/>
              </a:spcBef>
              <a:tabLst>
                <a:tab algn="l" pos="0"/>
                <a:tab algn="l" pos="731880"/>
                <a:tab algn="l" pos="1189080"/>
                <a:tab algn="l" pos="1646280"/>
                <a:tab algn="l" pos="2103480"/>
                <a:tab algn="l" pos="2560680"/>
                <a:tab algn="l" pos="3017880"/>
                <a:tab algn="l" pos="3475080"/>
                <a:tab algn="l" pos="3932280"/>
                <a:tab algn="l" pos="4389480"/>
                <a:tab algn="l" pos="4846680"/>
                <a:tab algn="l" pos="5303880"/>
                <a:tab algn="l" pos="5761080"/>
                <a:tab algn="l" pos="6218280"/>
                <a:tab algn="l" pos="6675480"/>
                <a:tab algn="l" pos="7132680"/>
                <a:tab algn="l" pos="7589880"/>
                <a:tab algn="l" pos="8047080"/>
                <a:tab algn="l" pos="8504280"/>
                <a:tab algn="l" pos="8961480"/>
                <a:tab algn="l" pos="9418680"/>
                <a:tab algn="l" pos="987588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&lt;/isik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257360" y="1685880"/>
            <a:ext cx="4498200" cy="3118320"/>
          </a:xfrm>
          <a:prstGeom prst="roundRect">
            <a:avLst>
              <a:gd name="adj" fmla="val 5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1" marL="731880" indent="-274680">
              <a:lnSpc>
                <a:spcPct val="97000"/>
              </a:lnSpc>
              <a:spcBef>
                <a:spcPts val="400"/>
              </a:spcBef>
              <a:tabLst>
                <a:tab algn="l" pos="0"/>
                <a:tab algn="l" pos="731880"/>
                <a:tab algn="l" pos="1189080"/>
                <a:tab algn="l" pos="1646280"/>
                <a:tab algn="l" pos="2103480"/>
                <a:tab algn="l" pos="2560680"/>
                <a:tab algn="l" pos="3017880"/>
                <a:tab algn="l" pos="3475080"/>
                <a:tab algn="l" pos="3932280"/>
                <a:tab algn="l" pos="4389480"/>
                <a:tab algn="l" pos="4846680"/>
                <a:tab algn="l" pos="5303880"/>
                <a:tab algn="l" pos="5761080"/>
                <a:tab algn="l" pos="6218280"/>
                <a:tab algn="l" pos="6675480"/>
                <a:tab algn="l" pos="7132680"/>
                <a:tab algn="l" pos="7589880"/>
                <a:tab algn="l" pos="8047080"/>
                <a:tab algn="l" pos="8504280"/>
                <a:tab algn="l" pos="8961480"/>
                <a:tab algn="l" pos="9418680"/>
                <a:tab algn="l" pos="987588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&lt;isik eesn=”Tanel”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1880" indent="-274680">
              <a:lnSpc>
                <a:spcPct val="97000"/>
              </a:lnSpc>
              <a:spcBef>
                <a:spcPts val="400"/>
              </a:spcBef>
              <a:tabLst>
                <a:tab algn="l" pos="0"/>
                <a:tab algn="l" pos="731880"/>
                <a:tab algn="l" pos="1189080"/>
                <a:tab algn="l" pos="1646280"/>
                <a:tab algn="l" pos="2103480"/>
                <a:tab algn="l" pos="2560680"/>
                <a:tab algn="l" pos="3017880"/>
                <a:tab algn="l" pos="3475080"/>
                <a:tab algn="l" pos="3932280"/>
                <a:tab algn="l" pos="4389480"/>
                <a:tab algn="l" pos="4846680"/>
                <a:tab algn="l" pos="5303880"/>
                <a:tab algn="l" pos="5761080"/>
                <a:tab algn="l" pos="6218280"/>
                <a:tab algn="l" pos="6675480"/>
                <a:tab algn="l" pos="7132680"/>
                <a:tab algn="l" pos="7589880"/>
                <a:tab algn="l" pos="8047080"/>
                <a:tab algn="l" pos="8504280"/>
                <a:tab algn="l" pos="8961480"/>
                <a:tab algn="l" pos="9418680"/>
                <a:tab algn="l" pos="987588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        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peren=”Tammet”/&gt;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1880" indent="-274680">
              <a:lnSpc>
                <a:spcPct val="97000"/>
              </a:lnSpc>
              <a:spcBef>
                <a:spcPts val="400"/>
              </a:spcBef>
              <a:tabLst>
                <a:tab algn="l" pos="0"/>
                <a:tab algn="l" pos="731880"/>
                <a:tab algn="l" pos="1189080"/>
                <a:tab algn="l" pos="1646280"/>
                <a:tab algn="l" pos="2103480"/>
                <a:tab algn="l" pos="2560680"/>
                <a:tab algn="l" pos="3017880"/>
                <a:tab algn="l" pos="3475080"/>
                <a:tab algn="l" pos="3932280"/>
                <a:tab algn="l" pos="4389480"/>
                <a:tab algn="l" pos="4846680"/>
                <a:tab algn="l" pos="5303880"/>
                <a:tab algn="l" pos="5761080"/>
                <a:tab algn="l" pos="6218280"/>
                <a:tab algn="l" pos="6675480"/>
                <a:tab algn="l" pos="7132680"/>
                <a:tab algn="l" pos="7589880"/>
                <a:tab algn="l" pos="8047080"/>
                <a:tab algn="l" pos="8504280"/>
                <a:tab algn="l" pos="8961480"/>
                <a:tab algn="l" pos="9418680"/>
                <a:tab algn="l" pos="987588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1880" indent="-274680">
              <a:lnSpc>
                <a:spcPct val="97000"/>
              </a:lnSpc>
              <a:spcBef>
                <a:spcPts val="400"/>
              </a:spcBef>
              <a:tabLst>
                <a:tab algn="l" pos="0"/>
                <a:tab algn="l" pos="731880"/>
                <a:tab algn="l" pos="1189080"/>
                <a:tab algn="l" pos="1646280"/>
                <a:tab algn="l" pos="2103480"/>
                <a:tab algn="l" pos="2560680"/>
                <a:tab algn="l" pos="3017880"/>
                <a:tab algn="l" pos="3475080"/>
                <a:tab algn="l" pos="3932280"/>
                <a:tab algn="l" pos="4389480"/>
                <a:tab algn="l" pos="4846680"/>
                <a:tab algn="l" pos="5303880"/>
                <a:tab algn="l" pos="5761080"/>
                <a:tab algn="l" pos="6218280"/>
                <a:tab algn="l" pos="6675480"/>
                <a:tab algn="l" pos="7132680"/>
                <a:tab algn="l" pos="7589880"/>
                <a:tab algn="l" pos="8047080"/>
                <a:tab algn="l" pos="8504280"/>
                <a:tab algn="l" pos="8961480"/>
                <a:tab algn="l" pos="9418680"/>
                <a:tab algn="l" pos="987588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1880" indent="-274680">
              <a:lnSpc>
                <a:spcPct val="97000"/>
              </a:lnSpc>
              <a:spcBef>
                <a:spcPts val="400"/>
              </a:spcBef>
              <a:tabLst>
                <a:tab algn="l" pos="0"/>
                <a:tab algn="l" pos="731880"/>
                <a:tab algn="l" pos="1189080"/>
                <a:tab algn="l" pos="1646280"/>
                <a:tab algn="l" pos="2103480"/>
                <a:tab algn="l" pos="2560680"/>
                <a:tab algn="l" pos="3017880"/>
                <a:tab algn="l" pos="3475080"/>
                <a:tab algn="l" pos="3932280"/>
                <a:tab algn="l" pos="4389480"/>
                <a:tab algn="l" pos="4846680"/>
                <a:tab algn="l" pos="5303880"/>
                <a:tab algn="l" pos="5761080"/>
                <a:tab algn="l" pos="6218280"/>
                <a:tab algn="l" pos="6675480"/>
                <a:tab algn="l" pos="7132680"/>
                <a:tab algn="l" pos="7589880"/>
                <a:tab algn="l" pos="8047080"/>
                <a:tab algn="l" pos="8504280"/>
                <a:tab algn="l" pos="8961480"/>
                <a:tab algn="l" pos="9418680"/>
                <a:tab algn="l" pos="987588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on  teine asi, ku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1880" indent="-274680">
              <a:lnSpc>
                <a:spcPct val="97000"/>
              </a:lnSpc>
              <a:spcBef>
                <a:spcPts val="400"/>
              </a:spcBef>
              <a:tabLst>
                <a:tab algn="l" pos="0"/>
                <a:tab algn="l" pos="731880"/>
                <a:tab algn="l" pos="1189080"/>
                <a:tab algn="l" pos="1646280"/>
                <a:tab algn="l" pos="2103480"/>
                <a:tab algn="l" pos="2560680"/>
                <a:tab algn="l" pos="3017880"/>
                <a:tab algn="l" pos="3475080"/>
                <a:tab algn="l" pos="3932280"/>
                <a:tab algn="l" pos="4389480"/>
                <a:tab algn="l" pos="4846680"/>
                <a:tab algn="l" pos="5303880"/>
                <a:tab algn="l" pos="5761080"/>
                <a:tab algn="l" pos="6218280"/>
                <a:tab algn="l" pos="6675480"/>
                <a:tab algn="l" pos="7132680"/>
                <a:tab algn="l" pos="7589880"/>
                <a:tab algn="l" pos="8047080"/>
                <a:tab algn="l" pos="8504280"/>
                <a:tab algn="l" pos="8961480"/>
                <a:tab algn="l" pos="9418680"/>
                <a:tab algn="l" pos="987588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1880" indent="-274680">
              <a:lnSpc>
                <a:spcPct val="97000"/>
              </a:lnSpc>
              <a:spcBef>
                <a:spcPts val="400"/>
              </a:spcBef>
              <a:tabLst>
                <a:tab algn="l" pos="0"/>
                <a:tab algn="l" pos="731880"/>
                <a:tab algn="l" pos="1189080"/>
                <a:tab algn="l" pos="1646280"/>
                <a:tab algn="l" pos="2103480"/>
                <a:tab algn="l" pos="2560680"/>
                <a:tab algn="l" pos="3017880"/>
                <a:tab algn="l" pos="3475080"/>
                <a:tab algn="l" pos="3932280"/>
                <a:tab algn="l" pos="4389480"/>
                <a:tab algn="l" pos="4846680"/>
                <a:tab algn="l" pos="5303880"/>
                <a:tab algn="l" pos="5761080"/>
                <a:tab algn="l" pos="6218280"/>
                <a:tab algn="l" pos="6675480"/>
                <a:tab algn="l" pos="7132680"/>
                <a:tab algn="l" pos="7589880"/>
                <a:tab algn="l" pos="8047080"/>
                <a:tab algn="l" pos="8504280"/>
                <a:tab algn="l" pos="8961480"/>
                <a:tab algn="l" pos="9418680"/>
                <a:tab algn="l" pos="987588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&lt;isik peren=”Tamme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1880" indent="-274680">
              <a:lnSpc>
                <a:spcPct val="97000"/>
              </a:lnSpc>
              <a:spcBef>
                <a:spcPts val="400"/>
              </a:spcBef>
              <a:tabLst>
                <a:tab algn="l" pos="0"/>
                <a:tab algn="l" pos="731880"/>
                <a:tab algn="l" pos="1189080"/>
                <a:tab algn="l" pos="1646280"/>
                <a:tab algn="l" pos="2103480"/>
                <a:tab algn="l" pos="2560680"/>
                <a:tab algn="l" pos="3017880"/>
                <a:tab algn="l" pos="3475080"/>
                <a:tab algn="l" pos="3932280"/>
                <a:tab algn="l" pos="4389480"/>
                <a:tab algn="l" pos="4846680"/>
                <a:tab algn="l" pos="5303880"/>
                <a:tab algn="l" pos="5761080"/>
                <a:tab algn="l" pos="6218280"/>
                <a:tab algn="l" pos="6675480"/>
                <a:tab algn="l" pos="7132680"/>
                <a:tab algn="l" pos="7589880"/>
                <a:tab algn="l" pos="8047080"/>
                <a:tab algn="l" pos="8504280"/>
                <a:tab algn="l" pos="8961480"/>
                <a:tab algn="l" pos="9418680"/>
                <a:tab algn="l" pos="987588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        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eesn=”Tanel”/&gt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1880" indent="-274680">
              <a:lnSpc>
                <a:spcPct val="97000"/>
              </a:lnSpc>
              <a:spcBef>
                <a:spcPts val="400"/>
              </a:spcBef>
              <a:tabLst>
                <a:tab algn="l" pos="0"/>
                <a:tab algn="l" pos="731880"/>
                <a:tab algn="l" pos="1189080"/>
                <a:tab algn="l" pos="1646280"/>
                <a:tab algn="l" pos="2103480"/>
                <a:tab algn="l" pos="2560680"/>
                <a:tab algn="l" pos="3017880"/>
                <a:tab algn="l" pos="3475080"/>
                <a:tab algn="l" pos="3932280"/>
                <a:tab algn="l" pos="4389480"/>
                <a:tab algn="l" pos="4846680"/>
                <a:tab algn="l" pos="5303880"/>
                <a:tab algn="l" pos="5761080"/>
                <a:tab algn="l" pos="6218280"/>
                <a:tab algn="l" pos="6675480"/>
                <a:tab algn="l" pos="7132680"/>
                <a:tab algn="l" pos="7589880"/>
                <a:tab algn="l" pos="8047080"/>
                <a:tab algn="l" pos="8504280"/>
                <a:tab algn="l" pos="8961480"/>
                <a:tab algn="l" pos="9418680"/>
                <a:tab algn="l" pos="987588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1880" indent="-274680">
              <a:lnSpc>
                <a:spcPct val="97000"/>
              </a:lnSpc>
              <a:spcBef>
                <a:spcPts val="400"/>
              </a:spcBef>
              <a:tabLst>
                <a:tab algn="l" pos="0"/>
                <a:tab algn="l" pos="731880"/>
                <a:tab algn="l" pos="1189080"/>
                <a:tab algn="l" pos="1646280"/>
                <a:tab algn="l" pos="2103480"/>
                <a:tab algn="l" pos="2560680"/>
                <a:tab algn="l" pos="3017880"/>
                <a:tab algn="l" pos="3475080"/>
                <a:tab algn="l" pos="3932280"/>
                <a:tab algn="l" pos="4389480"/>
                <a:tab algn="l" pos="4846680"/>
                <a:tab algn="l" pos="5303880"/>
                <a:tab algn="l" pos="5761080"/>
                <a:tab algn="l" pos="6218280"/>
                <a:tab algn="l" pos="6675480"/>
                <a:tab algn="l" pos="7132680"/>
                <a:tab algn="l" pos="7589880"/>
                <a:tab algn="l" pos="8047080"/>
                <a:tab algn="l" pos="8504280"/>
                <a:tab algn="l" pos="8961480"/>
                <a:tab algn="l" pos="9418680"/>
                <a:tab algn="l" pos="987588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799160" y="1405080"/>
            <a:ext cx="3944880" cy="3919320"/>
          </a:xfrm>
          <a:prstGeom prst="roundRect">
            <a:avLst>
              <a:gd name="adj" fmla="val 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Süntaks: atribuudi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65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Atribuutidel peab olema väärtus kas jutumärkide “ või apostroofide ' vahel: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orrektne on:      &lt;hind valuuta=”EEK”&gt;9.8&lt;/hind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orrektne on:      &lt;hind valuuta='EEK'&gt;9.8&lt;/hind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i ole korrektne:  &lt;hind valuuta=EEK&gt;9.8&lt;/hind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i ole korrektne:  &lt;hind valuuta&gt;9.8&lt;/hind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NB! Jutumärkide sees võib olla apostroofe ja vastupidi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orrektsed on ka: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isik nimi=”Jaan 'Superman'  Raud”/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isik nimi='Jaan “Superman”  Raud'/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NB! Praktikas on soovitav kasutada jutumärke, mitte apostroofe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838080" y="379080"/>
            <a:ext cx="7759800" cy="297000"/>
            <a:chOff x="838080" y="379080"/>
            <a:chExt cx="7759800" cy="297000"/>
          </a:xfrm>
        </p:grpSpPr>
        <p:sp>
          <p:nvSpPr>
            <p:cNvPr id="85" name=""/>
            <p:cNvSpPr/>
            <p:nvPr/>
          </p:nvSpPr>
          <p:spPr>
            <a:xfrm>
              <a:off x="838080" y="666720"/>
              <a:ext cx="77583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V="1">
              <a:off x="8596440" y="379080"/>
              <a:ext cx="1440" cy="2970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Süntaks: tähed 1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65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Tagides ja atribuutides on suured ja väikesed tähed erinevad: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koer&gt;Pontu&lt;/koer&gt; on teine asi, kui &lt;Koer&gt;Pontu&lt;/Koer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ning &lt;KOER&gt;Pontu&lt;/koer&gt; on ebakorrektne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Tagi või atribuudi nimi: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eab algama tähestikutähega (a,b,...,Y,Z) või tähega _ või :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i tohi alata tekstiga xml, Xml, XML jne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ohib sisaldada tähestikutähti, numbreid, tähti _ ja - (miinus)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i või sisalda tühikut ega enamikku kirjavahemärke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Võib sisaldada täpitähti (NB! sellest pikemalt järgnevas)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838080" y="379080"/>
            <a:ext cx="7759800" cy="297000"/>
            <a:chOff x="838080" y="379080"/>
            <a:chExt cx="7759800" cy="297000"/>
          </a:xfrm>
        </p:grpSpPr>
        <p:sp>
          <p:nvSpPr>
            <p:cNvPr id="90" name=""/>
            <p:cNvSpPr/>
            <p:nvPr/>
          </p:nvSpPr>
          <p:spPr>
            <a:xfrm>
              <a:off x="838080" y="666720"/>
              <a:ext cx="77583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V="1">
              <a:off x="8596440" y="379080"/>
              <a:ext cx="1440" cy="2970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Süntaks: tühikud 1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65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Tühikud ja reavahed on (rangelt võttes) XML teksti osad: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isik&gt;   &lt;nimi&gt;Tanel&lt;/nimi&gt;&lt;/isik&gt;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on – rangelt võttes - teine asi, kui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isik&gt;&lt;nimi&gt;Tanel&lt;/nimi&gt;&lt;/isik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is on omakorda erinev, kui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isik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nimi&gt;Tanel&lt;/nimi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/isik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NB! Enamuse rakenduste jaoks tühikud/reavahed ei loe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raldi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“xml infoset”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tandardi jaoks tühikud/reavahed ei loe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838080" y="379080"/>
            <a:ext cx="7759800" cy="297000"/>
            <a:chOff x="838080" y="379080"/>
            <a:chExt cx="7759800" cy="297000"/>
          </a:xfrm>
        </p:grpSpPr>
        <p:sp>
          <p:nvSpPr>
            <p:cNvPr id="95" name=""/>
            <p:cNvSpPr/>
            <p:nvPr/>
          </p:nvSpPr>
          <p:spPr>
            <a:xfrm>
              <a:off x="838080" y="666720"/>
              <a:ext cx="77583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flipV="1">
              <a:off x="8596440" y="379080"/>
              <a:ext cx="1440" cy="2970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anel Tammet</cp:lastModifiedBy>
  <cp:revision>0</cp:revision>
  <dc:subject/>
  <dc:title>No Slide Title</dc:title>
</cp:coreProperties>
</file>